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241-B0DF-4409-BE0C-AC6200F5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DB7-167F-4C2D-A1A7-EE4BA06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5E2-A29A-4C9C-82FF-DB4A50AD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C27-98B5-4622-AAE5-9B02332B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E66-90EF-4B83-9FFE-96DEB149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31C-22B1-48A3-A30B-9230C0E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60A-9826-47C6-894C-85D17FF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9D8-5D96-4C75-B232-9A052C4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033-C9CC-41D1-8721-1A280B2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C89-D3E0-4135-9A14-2C8BCC3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ECB-0644-4EDA-A58A-F9C693E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FF3-DDAA-4F4B-9464-D06E1E1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F30-91C6-42E7-8C09-43D62854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arenet.eu/sites/default/files/LTC&apos;09_LRL_Report.pd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«Getting Less-Resourced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anguages on-Board !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orksho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oseph Mariani (LIMSI-CNRS &amp; IMM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halid Choukri (ELRA &amp; EL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ygmunt Vetulani (Adam Mickiewicz University, Pozn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5EE-3D9D-49FD-8AC4-9DD505CDF4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nerally speaking, a strong political will to consider the language dimension (not only lip-service) and enough funds are necess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must go with the awareness that Language Technologies and Language Resources are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should be specialists in the processing of that language, reaching a critical mass, and young researchers should be tr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E35-F053-4479-8C1E-31F76142EB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nfrastructure must exist,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writing system/a transcription code/an agreed orthograph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uage Resources (sufficient in quantity and quality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ols (especially language independent (based on statistical training) ones, if possible as Open Sourc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adata, annotation schemes, standar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elopment platfo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means (adapted to the language specificities (such as for Machine Translation of morphologically-rich languages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7E2-04F9-4330-892E-4F442265AF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effort should be devoted in the long-term, resulting in a necessary strong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alects variants and sociolinguistics should also be taken into accou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dressing only the short-term development of a specific product or service for that language (as a kind of simple toy), should be avoided, whereas demonstrating applications based on a strong foundation should be favo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E74-C49D-434B-9EE7-3EE2D86009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en a majority language also exists, both should be studied together, and it would save time and efforts to consider a family of languages all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otstrapping approaches facilitate the coverage of a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peration among countries or programs would greatly help by providing the less advanced ones with examples and Best Practices, such as the definition of a commonly agreed basic set of Language Resources which have already been proven necessary to correctly produce the corresponding technologies for a given language, with an estimate of the cost, and the identification of gaps and roadmaps should be aimed 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094-6D7E-4A3E-8EB3-E02AFAD291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related costs could be shared between the corresponding countries or regions, and international bodies (such as the EC), which could also ensure a proper coordi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ster keyword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teroperability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ich means coord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ustainability 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ich means a strong foundation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EC4-19DD-4F9C-9329-45145E9064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etting LRL on-Board 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atellite event of LTC’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znan, Nov. 6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-org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. Mariani, K. Choukri and Z. Vetul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port available on FLaReNet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larenet.eu/sites/default/files/LTC'09_LRL_Report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440-AFE9-4857-9EE0-F422F8457D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gram Committee (18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ria Bel (Univ. Pompeu Fabra,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hard Budin (Univ. Vienna, Aust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coletta Calzolari (ILC, 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ffyd Gibbon (Univ. Bielefeld, 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o Grobelnik (J. Stefan Institute, Slove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n Hajic (Charles Univ., Czech Repub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fred Majewicz (UAM, Po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unción Moreno (UPC,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n Odijk (Univ. Utrecht, The Netherl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cholas Ostler (Foundation for Endengered Languages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ellios Piperidis(ILSP, Gre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or Proszeky (Morphologic, Hung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hsen Rashwan (Cairo Univ., Egy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epa Sarasola Gabiola (Univ. del Pas Vasco,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o Tadić (Croatian Academy of Sciences and Arts, Croat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 Tufiş (RACAI, Ro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istina Vertan (Univ. Hamburg, 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iony Williams (Bangor Univ.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691-FFD3-4522-95AB-9B2D404F6D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T are essential to support the challenge of Multilingualism in order t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serve languages and cul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low for communication among humans speaking different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cessary to have access to LR and to LT evaluation for developing a LT in a give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tuation very different across differen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ttle or sparse data exist for languages for which limited efforts have been devoted to such issues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Less-Resourced Languages (LRL)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BCE-0E14-4F3C-9C51-771ADC890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ms of the worksh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porting the nee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enting achievements and on-going pl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osing solutions for the futu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oth in terms of LR and of LT eval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pecially in European, Euro-Mediterranean and regional frame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entify key factors that have an impact on a shared roadmap towards supplying LR and LT for all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327-CE2B-4B2C-8119-EC41E7FA51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erience in the specification, production, validation and distribution of LR for Less-Resourced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erience in the evaluation of LT for Less-Resourced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rastructures for making available LR and LT in Less-Resourced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tive approaches (comparable corpora, pivot languages, language-family clustering, portability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72C-730F-4818-B9D0-5CA99B30DC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3h45-15h30 Part 1 (Chair: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. Choukr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h45-13h50 Introduction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Marian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h50-14h15 Keynote Talk 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. Willi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Less-resourced languages and language resources: lessons learned from the Celtic languages of Britain and Ireland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h15-14h30 Surprise Guest Talk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irish Nath Jh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dian Languages Corpora Initiative (ILCI-TD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h30-14h50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. Rusko, S. Darjaa, M. Trnk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peech synthesis as a first step towards speech technologies in Ro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h50-15h10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. Yifiru Tachbelie, S. Teferra Abate, W. Menzel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pheme-Based Language Modeling for Amharic Speech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h10-15h30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. D. Snoeren, M. Adda-Deck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nunciation and Writing Variants in Luxembourgish: The Case of Mobile N-Deletion in Large Cor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h30-16h00 (Real)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23D-1E68-4F83-9EFC-4BCEC4F54D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h00-17h25 Part 2 (Chair: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J. Marian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h00-16h20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. Alegria, M. Aranzabe, X. Arregi, X. Artola, A. Diaz de Ilarraza, A. Mayor, K. Sarasol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Valuable Language Resources and Applications Supporting the Use of Ba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h20-16h40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M. Farrus, G. Iglesias, C. Henriquez, M. Poch, R. Munoz, N. Ezeiza, E. R. Banga, J. B. Mari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perience on statistical machine translation between Spanish and the regional languages of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h40-17h00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. Beermann P. Mihaylo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nterlinear Glossing On­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h00-17h20 </a:t>
            </a:r>
            <a:r>
              <a:rPr b="0" i="1" lang="sv-SE" sz="1800" spc="-1" strike="noStrike">
                <a:solidFill>
                  <a:srgbClr val="000000"/>
                </a:solidFill>
                <a:latin typeface="Arial"/>
              </a:rPr>
              <a:t>L. Hellan, M. Esther, K. Dakubu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methodology for enhancing argument structur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h20-17h25 Conclusion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. Choukr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h25-17h35 (Technical)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B35-FC92-471E-B195-7A9C04C0B8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7h35-19h00 Part 3 (Chair: D. Gibb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h35-17h50 Invited Talk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eksandra Wesolows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E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w start for European language technology. Are you rea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h50-19h00 Panel Session 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tting less-resourced languages on board: which languages, which resources, which reasons, which methods, which funding 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rator: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. Gibb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anelists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eksandra Wesolows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arc Kemps-Snijd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epr. Clarin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halid Choukr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epr. Flarenet and ELRA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fred Majewic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oland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irish Nath J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India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riony William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K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Write-FLaReNe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8E1-0105-4B7B-AC73-345F9483A6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0:24:18Z</dcterms:created>
  <dc:creator> </dc:creator>
  <dc:description/>
  <dc:language>en-US</dc:language>
  <cp:lastModifiedBy> </cp:lastModifiedBy>
  <dcterms:modified xsi:type="dcterms:W3CDTF">2010-05-22T11:20:00Z</dcterms:modified>
  <cp:revision>22</cp:revision>
  <dc:subject/>
  <dc:title>Getting Less-Resourced Languages on-Board ! </dc:title>
</cp:coreProperties>
</file>