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DF888B-3666-42A5-A637-423E192A872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679979-B335-4987-A137-44D37C9E70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D6AF90-7215-4BE6-85BE-FB39D45504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B966-3E2E-48CD-BD7A-4539E2968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60160"/>
            <a:ext cx="822960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64"/>
              </a:spcBef>
              <a:spcAft>
                <a:spcPts val="7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70720"/>
            <a:ext cx="822960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64"/>
              </a:spcBef>
              <a:spcAft>
                <a:spcPts val="7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AF8A-6E02-4E2E-8E62-E2BE9F994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60160"/>
            <a:ext cx="401580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64"/>
              </a:spcBef>
              <a:spcAft>
                <a:spcPts val="7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60160"/>
            <a:ext cx="401580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64"/>
              </a:spcBef>
              <a:spcAft>
                <a:spcPts val="7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70720"/>
            <a:ext cx="401580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64"/>
              </a:spcBef>
              <a:spcAft>
                <a:spcPts val="7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70720"/>
            <a:ext cx="401580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64"/>
              </a:spcBef>
              <a:spcAft>
                <a:spcPts val="7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D8D3-7E5A-4B47-AAD1-55EA158D2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60160"/>
            <a:ext cx="264960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64"/>
              </a:spcBef>
              <a:spcAft>
                <a:spcPts val="7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460160"/>
            <a:ext cx="264960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64"/>
              </a:spcBef>
              <a:spcAft>
                <a:spcPts val="7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460160"/>
            <a:ext cx="264960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64"/>
              </a:spcBef>
              <a:spcAft>
                <a:spcPts val="7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70720"/>
            <a:ext cx="264960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64"/>
              </a:spcBef>
              <a:spcAft>
                <a:spcPts val="7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70720"/>
            <a:ext cx="264960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64"/>
              </a:spcBef>
              <a:spcAft>
                <a:spcPts val="7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70720"/>
            <a:ext cx="264960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64"/>
              </a:spcBef>
              <a:spcAft>
                <a:spcPts val="7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68B8-1FB0-4EEC-9A0B-3CAA3A9B8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AB5B2-F593-4D78-939A-08B5CC18A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46016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64"/>
              </a:spcBef>
              <a:spcAft>
                <a:spcPts val="7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46183-82E5-433B-B865-4A52A88C0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6016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64"/>
              </a:spcBef>
              <a:spcAft>
                <a:spcPts val="7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CDFCC-363B-49A9-B754-E4D51137A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60160"/>
            <a:ext cx="401580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64"/>
              </a:spcBef>
              <a:spcAft>
                <a:spcPts val="7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60160"/>
            <a:ext cx="401580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64"/>
              </a:spcBef>
              <a:spcAft>
                <a:spcPts val="7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0DFE4-D9A2-4198-96D2-B14B3DE70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48F6E-CAF8-46A3-BBCE-FFB0B1F0D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64"/>
              </a:spcBef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06577-991F-4068-AB78-95151BCBD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60160"/>
            <a:ext cx="401580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64"/>
              </a:spcBef>
              <a:spcAft>
                <a:spcPts val="7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60160"/>
            <a:ext cx="401580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64"/>
              </a:spcBef>
              <a:spcAft>
                <a:spcPts val="7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0720"/>
            <a:ext cx="401580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64"/>
              </a:spcBef>
              <a:spcAft>
                <a:spcPts val="7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AA68B-553F-4022-B5C8-7F87DA31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46016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64"/>
              </a:spcBef>
              <a:spcAft>
                <a:spcPts val="7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0C03-0483-42AB-ACB9-ECC0127D9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60160"/>
            <a:ext cx="401580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64"/>
              </a:spcBef>
              <a:spcAft>
                <a:spcPts val="7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460160"/>
            <a:ext cx="401580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64"/>
              </a:spcBef>
              <a:spcAft>
                <a:spcPts val="7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70720"/>
            <a:ext cx="401580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64"/>
              </a:spcBef>
              <a:spcAft>
                <a:spcPts val="7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30908-B4BF-43E9-8D24-295FC575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60160"/>
            <a:ext cx="401580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64"/>
              </a:spcBef>
              <a:spcAft>
                <a:spcPts val="7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460160"/>
            <a:ext cx="401580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64"/>
              </a:spcBef>
              <a:spcAft>
                <a:spcPts val="7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70720"/>
            <a:ext cx="822960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64"/>
              </a:spcBef>
              <a:spcAft>
                <a:spcPts val="7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28ECF-93D5-4226-A032-79068956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60160"/>
            <a:ext cx="822960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64"/>
              </a:spcBef>
              <a:spcAft>
                <a:spcPts val="7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70720"/>
            <a:ext cx="822960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64"/>
              </a:spcBef>
              <a:spcAft>
                <a:spcPts val="7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F066C-FE89-4C59-9620-2AF4B1452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60160"/>
            <a:ext cx="401580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64"/>
              </a:spcBef>
              <a:spcAft>
                <a:spcPts val="7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60160"/>
            <a:ext cx="401580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64"/>
              </a:spcBef>
              <a:spcAft>
                <a:spcPts val="7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70720"/>
            <a:ext cx="401580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64"/>
              </a:spcBef>
              <a:spcAft>
                <a:spcPts val="7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70720"/>
            <a:ext cx="401580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64"/>
              </a:spcBef>
              <a:spcAft>
                <a:spcPts val="7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A657F-A423-4B8F-9AB7-C5A3E5679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60160"/>
            <a:ext cx="264960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64"/>
              </a:spcBef>
              <a:spcAft>
                <a:spcPts val="7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460160"/>
            <a:ext cx="264960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64"/>
              </a:spcBef>
              <a:spcAft>
                <a:spcPts val="7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460160"/>
            <a:ext cx="264960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64"/>
              </a:spcBef>
              <a:spcAft>
                <a:spcPts val="7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70720"/>
            <a:ext cx="264960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64"/>
              </a:spcBef>
              <a:spcAft>
                <a:spcPts val="7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70720"/>
            <a:ext cx="264960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64"/>
              </a:spcBef>
              <a:spcAft>
                <a:spcPts val="7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70720"/>
            <a:ext cx="264960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64"/>
              </a:spcBef>
              <a:spcAft>
                <a:spcPts val="7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BCA74-7622-432E-B1F7-9830034C6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6016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64"/>
              </a:spcBef>
              <a:spcAft>
                <a:spcPts val="7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C815-E6F1-43BE-BC4E-41F051DE2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60160"/>
            <a:ext cx="401580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64"/>
              </a:spcBef>
              <a:spcAft>
                <a:spcPts val="7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460160"/>
            <a:ext cx="401580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64"/>
              </a:spcBef>
              <a:spcAft>
                <a:spcPts val="7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8691-BACE-4FC4-95E2-B6B8B025E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72DC-56FF-4745-A057-35BFFE896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64"/>
              </a:spcBef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F45D-90EC-49DD-8484-7BDC4C77C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60160"/>
            <a:ext cx="401580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64"/>
              </a:spcBef>
              <a:spcAft>
                <a:spcPts val="7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60160"/>
            <a:ext cx="401580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64"/>
              </a:spcBef>
              <a:spcAft>
                <a:spcPts val="7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70720"/>
            <a:ext cx="401580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64"/>
              </a:spcBef>
              <a:spcAft>
                <a:spcPts val="7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310C-557C-46B3-AE2F-E02FC1AD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460160"/>
            <a:ext cx="401580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64"/>
              </a:spcBef>
              <a:spcAft>
                <a:spcPts val="7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460160"/>
            <a:ext cx="401580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64"/>
              </a:spcBef>
              <a:spcAft>
                <a:spcPts val="7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70720"/>
            <a:ext cx="401580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64"/>
              </a:spcBef>
              <a:spcAft>
                <a:spcPts val="7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4D08-D622-401A-95B4-13D8FC6F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460160"/>
            <a:ext cx="401580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64"/>
              </a:spcBef>
              <a:spcAft>
                <a:spcPts val="7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460160"/>
            <a:ext cx="401580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64"/>
              </a:spcBef>
              <a:spcAft>
                <a:spcPts val="7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70720"/>
            <a:ext cx="822960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64"/>
              </a:spcBef>
              <a:spcAft>
                <a:spcPts val="7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C3CB-D845-4DF7-AE28-F785C5E9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6016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64"/>
              </a:spcBef>
              <a:spcAft>
                <a:spcPts val="799"/>
              </a:spcAft>
              <a:buClr>
                <a:srgbClr val="802703"/>
              </a:buClr>
              <a:buSzPct val="75000"/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964"/>
              </a:spcBef>
              <a:spcAft>
                <a:spcPts val="799"/>
              </a:spcAft>
              <a:buClr>
                <a:srgbClr val="800000"/>
              </a:buClr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964"/>
              </a:spcBef>
              <a:spcAft>
                <a:spcPts val="799"/>
              </a:spcAft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964"/>
              </a:spcBef>
              <a:spcAft>
                <a:spcPts val="799"/>
              </a:spcAft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964"/>
              </a:spcBef>
              <a:spcAft>
                <a:spcPts val="799"/>
              </a:spcAft>
              <a:buClr>
                <a:srgbClr val="8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964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964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40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7f7f7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18E2BF-0C17-4530-89BF-B4D64FB81F6E}" type="datetime">
              <a:rPr b="0" lang="en-US" sz="1200" spc="-1" strike="noStrike">
                <a:solidFill>
                  <a:srgbClr val="7f7f7f"/>
                </a:solidFill>
                <a:latin typeface="Georg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7f7f7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59430F-5A60-480E-A3E7-FEE45B26DF01}" type="slidenum">
              <a:rPr b="1" lang="en-US" sz="1400" spc="-1" strike="noStrike">
                <a:solidFill>
                  <a:srgbClr val="7f7f7f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META-NET-Logo_L_rgb.eps"/>
          <p:cNvPicPr/>
          <p:nvPr/>
        </p:nvPicPr>
        <p:blipFill>
          <a:blip r:embed="rId2"/>
          <a:stretch/>
        </p:blipFill>
        <p:spPr>
          <a:xfrm>
            <a:off x="6935760" y="558720"/>
            <a:ext cx="1738440" cy="336600"/>
          </a:xfrm>
          <a:prstGeom prst="rect">
            <a:avLst/>
          </a:prstGeom>
          <a:ln w="0">
            <a:noFill/>
          </a:ln>
        </p:spPr>
      </p:pic>
      <p:sp>
        <p:nvSpPr>
          <p:cNvPr id="6" name="Gerade Verbindung 14"/>
          <p:cNvSpPr/>
          <p:nvPr/>
        </p:nvSpPr>
        <p:spPr>
          <a:xfrm>
            <a:off x="457200" y="1128600"/>
            <a:ext cx="8229600" cy="180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Gerade Verbindung 16"/>
          <p:cNvSpPr/>
          <p:nvPr/>
        </p:nvSpPr>
        <p:spPr>
          <a:xfrm>
            <a:off x="457200" y="6323040"/>
            <a:ext cx="8229600" cy="144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META-NET-Logo_L_rgb.eps"/>
          <p:cNvPicPr/>
          <p:nvPr/>
        </p:nvPicPr>
        <p:blipFill>
          <a:blip r:embed="rId2"/>
          <a:stretch/>
        </p:blipFill>
        <p:spPr>
          <a:xfrm>
            <a:off x="6935760" y="558720"/>
            <a:ext cx="1738440" cy="336600"/>
          </a:xfrm>
          <a:prstGeom prst="rect">
            <a:avLst/>
          </a:prstGeom>
          <a:ln w="0">
            <a:noFill/>
          </a:ln>
        </p:spPr>
      </p:pic>
      <p:sp>
        <p:nvSpPr>
          <p:cNvPr id="45" name="Gerade Verbindung 14"/>
          <p:cNvSpPr/>
          <p:nvPr/>
        </p:nvSpPr>
        <p:spPr>
          <a:xfrm>
            <a:off x="457200" y="1128600"/>
            <a:ext cx="8229600" cy="180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Gerade Verbindung 16"/>
          <p:cNvSpPr/>
          <p:nvPr/>
        </p:nvSpPr>
        <p:spPr>
          <a:xfrm>
            <a:off x="457200" y="6323040"/>
            <a:ext cx="8229600" cy="144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META-NET-Logo_L_rgb.eps"/>
          <p:cNvPicPr/>
          <p:nvPr/>
        </p:nvPicPr>
        <p:blipFill>
          <a:blip r:embed="rId3"/>
          <a:stretch/>
        </p:blipFill>
        <p:spPr>
          <a:xfrm>
            <a:off x="6935760" y="558720"/>
            <a:ext cx="1738440" cy="336600"/>
          </a:xfrm>
          <a:prstGeom prst="rect">
            <a:avLst/>
          </a:prstGeom>
          <a:ln w="0">
            <a:noFill/>
          </a:ln>
        </p:spPr>
      </p:pic>
      <p:sp>
        <p:nvSpPr>
          <p:cNvPr id="48" name="Gerade Verbindung 4"/>
          <p:cNvSpPr/>
          <p:nvPr/>
        </p:nvSpPr>
        <p:spPr>
          <a:xfrm>
            <a:off x="457200" y="1128600"/>
            <a:ext cx="8229600" cy="180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Gerade Verbindung 5"/>
          <p:cNvSpPr/>
          <p:nvPr/>
        </p:nvSpPr>
        <p:spPr>
          <a:xfrm>
            <a:off x="457200" y="6323040"/>
            <a:ext cx="8229600" cy="144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46016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64"/>
              </a:spcBef>
              <a:spcAft>
                <a:spcPts val="799"/>
              </a:spcAft>
              <a:buClr>
                <a:srgbClr val="802703"/>
              </a:buClr>
              <a:buSzPct val="75000"/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964"/>
              </a:spcBef>
              <a:spcAft>
                <a:spcPts val="799"/>
              </a:spcAft>
              <a:buClr>
                <a:srgbClr val="800000"/>
              </a:buClr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964"/>
              </a:spcBef>
              <a:spcAft>
                <a:spcPts val="799"/>
              </a:spcAft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964"/>
              </a:spcBef>
              <a:spcAft>
                <a:spcPts val="799"/>
              </a:spcAft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964"/>
              </a:spcBef>
              <a:spcAft>
                <a:spcPts val="799"/>
              </a:spcAft>
              <a:buClr>
                <a:srgbClr val="8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964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964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40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7f7f7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8E6991-9EC9-4707-A260-4185EFEFF175}" type="datetime">
              <a:rPr b="0" lang="en-US" sz="1200" spc="-1" strike="noStrike">
                <a:solidFill>
                  <a:srgbClr val="7f7f7f"/>
                </a:solidFill>
                <a:latin typeface="Georg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7f7f7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BBA18F-D548-4300-95C1-C72E6A037363}" type="slidenum">
              <a:rPr b="1" lang="en-US" sz="1400" spc="-1" strike="noStrike">
                <a:solidFill>
                  <a:srgbClr val="7f7f7f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meta-net.eu/" TargetMode="External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meta-net.eu/" TargetMode="External"/><Relationship Id="rId2" Type="http://schemas.openxmlformats.org/officeDocument/2006/relationships/hyperlink" Target="mailto:office@meta-net.eu" TargetMode="External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hteck 10"/>
          <p:cNvSpPr/>
          <p:nvPr/>
        </p:nvSpPr>
        <p:spPr>
          <a:xfrm>
            <a:off x="0" y="0"/>
            <a:ext cx="9144000" cy="6870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3" descr="BarcGraf-Stripe_orange_l_s.jpg"/>
          <p:cNvPicPr/>
          <p:nvPr/>
        </p:nvPicPr>
        <p:blipFill>
          <a:blip r:embed="rId1">
            <a:lum bright="12000"/>
          </a:blip>
          <a:srcRect l="0" t="0" r="0" b="55034"/>
          <a:stretch/>
        </p:blipFill>
        <p:spPr>
          <a:xfrm>
            <a:off x="0" y="0"/>
            <a:ext cx="9144000" cy="380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3" descr="BarcGraf-Stripe_orange_l_s.jpg"/>
          <p:cNvPicPr/>
          <p:nvPr/>
        </p:nvPicPr>
        <p:blipFill>
          <a:blip r:embed="rId2"/>
          <a:srcRect l="0" t="984" r="0" b="-757"/>
          <a:stretch/>
        </p:blipFill>
        <p:spPr>
          <a:xfrm>
            <a:off x="0" y="6164280"/>
            <a:ext cx="9144000" cy="711360"/>
          </a:xfrm>
          <a:prstGeom prst="rect">
            <a:avLst/>
          </a:prstGeom>
          <a:ln w="0">
            <a:noFill/>
          </a:ln>
        </p:spPr>
      </p:pic>
      <p:sp>
        <p:nvSpPr>
          <p:cNvPr id="101" name="TextBox 6"/>
          <p:cNvSpPr/>
          <p:nvPr/>
        </p:nvSpPr>
        <p:spPr>
          <a:xfrm>
            <a:off x="1558800" y="6334200"/>
            <a:ext cx="73821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100" spc="-1" strike="noStrike">
                <a:solidFill>
                  <a:srgbClr val="505050"/>
                </a:solidFill>
                <a:latin typeface="Verdana"/>
              </a:rPr>
              <a:t>META-NET is partially supported by the DG INFSO of the European Commission through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100" spc="-1" strike="noStrike">
                <a:solidFill>
                  <a:srgbClr val="505050"/>
                </a:solidFill>
                <a:latin typeface="Verdana"/>
              </a:rPr>
              <a:t>NoE project T4ME of the Seventh Framework Programme</a:t>
            </a:r>
            <a:r>
              <a:rPr b="0" lang="en-US" sz="1100" spc="-1" strike="noStrike">
                <a:solidFill>
                  <a:srgbClr val="505050"/>
                </a:solidFill>
                <a:latin typeface="Verdana"/>
              </a:rPr>
              <a:t>. </a:t>
            </a:r>
            <a:r>
              <a:rPr b="0" lang="en-GB" sz="1100" spc="-1" strike="noStrike">
                <a:solidFill>
                  <a:srgbClr val="505050"/>
                </a:solidFill>
                <a:latin typeface="Verdana"/>
              </a:rPr>
              <a:t>Grant Agreement No.: 24911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8"/>
          <p:cNvSpPr/>
          <p:nvPr/>
        </p:nvSpPr>
        <p:spPr>
          <a:xfrm>
            <a:off x="276120" y="3430440"/>
            <a:ext cx="8664840" cy="25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Georgia"/>
              </a:rPr>
              <a:t>Stelios Piperid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hteck 17"/>
          <p:cNvSpPr/>
          <p:nvPr/>
        </p:nvSpPr>
        <p:spPr>
          <a:xfrm>
            <a:off x="914400" y="6265800"/>
            <a:ext cx="530280" cy="515880"/>
          </a:xfrm>
          <a:prstGeom prst="rect">
            <a:avLst/>
          </a:prstGeom>
          <a:solidFill>
            <a:srgbClr val="fbf5e2"/>
          </a:solidFill>
          <a:ln w="0">
            <a:noFill/>
          </a:ln>
          <a:effectLst>
            <a:outerShdw dist="48433" dir="2880767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2" descr="fp7_.png"/>
          <p:cNvPicPr/>
          <p:nvPr/>
        </p:nvPicPr>
        <p:blipFill>
          <a:blip r:embed="rId3"/>
          <a:stretch/>
        </p:blipFill>
        <p:spPr>
          <a:xfrm>
            <a:off x="930240" y="6392880"/>
            <a:ext cx="477720" cy="333360"/>
          </a:xfrm>
          <a:prstGeom prst="rect">
            <a:avLst/>
          </a:prstGeom>
          <a:ln w="0">
            <a:noFill/>
          </a:ln>
        </p:spPr>
      </p:pic>
      <p:sp>
        <p:nvSpPr>
          <p:cNvPr id="105" name="Rechteck 23"/>
          <p:cNvSpPr/>
          <p:nvPr/>
        </p:nvSpPr>
        <p:spPr>
          <a:xfrm>
            <a:off x="276120" y="6265800"/>
            <a:ext cx="530280" cy="515880"/>
          </a:xfrm>
          <a:prstGeom prst="rect">
            <a:avLst/>
          </a:prstGeom>
          <a:solidFill>
            <a:srgbClr val="fbf5e2"/>
          </a:solidFill>
          <a:ln w="0">
            <a:noFill/>
          </a:ln>
          <a:effectLst>
            <a:outerShdw dist="48433" dir="2880767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Object 12" descr=""/>
          <p:cNvPicPr/>
          <p:nvPr/>
        </p:nvPicPr>
        <p:blipFill>
          <a:blip r:embed="rId4"/>
          <a:stretch/>
        </p:blipFill>
        <p:spPr>
          <a:xfrm>
            <a:off x="276120" y="6262560"/>
            <a:ext cx="536760" cy="519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meta-share.png"/>
          <p:cNvPicPr/>
          <p:nvPr/>
        </p:nvPicPr>
        <p:blipFill>
          <a:blip r:embed="rId5"/>
          <a:stretch/>
        </p:blipFill>
        <p:spPr>
          <a:xfrm>
            <a:off x="2152800" y="3860640"/>
            <a:ext cx="5011560" cy="727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8" descr="META-NET-Logo_L_rgb.eps"/>
          <p:cNvPicPr/>
          <p:nvPr/>
        </p:nvPicPr>
        <p:blipFill>
          <a:blip r:embed="rId6">
            <a:lum bright="-2000"/>
          </a:blip>
          <a:stretch/>
        </p:blipFill>
        <p:spPr>
          <a:xfrm>
            <a:off x="2152800" y="1501920"/>
            <a:ext cx="5011560" cy="8395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924360" y="2728800"/>
            <a:ext cx="118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Rounded Rectangle 5" descr=""/>
          <p:cNvPicPr/>
          <p:nvPr/>
        </p:nvPicPr>
        <p:blipFill>
          <a:blip r:embed="rId1"/>
          <a:stretch/>
        </p:blipFill>
        <p:spPr>
          <a:xfrm>
            <a:off x="585720" y="1395360"/>
            <a:ext cx="7972560" cy="49021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755640" y="1662120"/>
            <a:ext cx="73915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ETA-SHAR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EA7C5F-6FC5-4481-BCF0-B8E395C66E23}" type="slidenum">
              <a:rPr b="0" lang="en-US" sz="1400" spc="-1" strike="noStrike">
                <a:solidFill>
                  <a:srgbClr val="7f7f7f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Group 53" descr=""/>
          <p:cNvPicPr/>
          <p:nvPr/>
        </p:nvPicPr>
        <p:blipFill>
          <a:blip r:embed="rId2"/>
          <a:stretch/>
        </p:blipFill>
        <p:spPr>
          <a:xfrm>
            <a:off x="3090960" y="3260880"/>
            <a:ext cx="2949480" cy="1036440"/>
          </a:xfrm>
          <a:prstGeom prst="rect">
            <a:avLst/>
          </a:prstGeom>
          <a:ln w="0">
            <a:noFill/>
          </a:ln>
        </p:spPr>
      </p:pic>
      <p:sp>
        <p:nvSpPr>
          <p:cNvPr id="215" name="Snip and Round Single Corner Rectangle 15"/>
          <p:cNvSpPr/>
          <p:nvPr/>
        </p:nvSpPr>
        <p:spPr>
          <a:xfrm>
            <a:off x="928800" y="1643040"/>
            <a:ext cx="2011320" cy="1096920"/>
          </a:xfrm>
          <a:prstGeom prst="pie">
            <a:avLst/>
          </a:prstGeom>
          <a:solidFill>
            <a:srgbClr val="ffcc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Tahoma"/>
                <a:ea typeface="Tahoma"/>
              </a:rPr>
              <a:t>International Data Cent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ELRA, LDC, N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nip and Round Single Corner Rectangle 16"/>
          <p:cNvSpPr/>
          <p:nvPr/>
        </p:nvSpPr>
        <p:spPr>
          <a:xfrm>
            <a:off x="3571920" y="1643040"/>
            <a:ext cx="2011320" cy="1096920"/>
          </a:xfrm>
          <a:prstGeom prst="pie">
            <a:avLst/>
          </a:prstGeom>
          <a:solidFill>
            <a:srgbClr val="ffcc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Tahoma"/>
                <a:ea typeface="Tahoma"/>
              </a:rPr>
              <a:t>LT Industry, S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nip and Round Single Corner Rectangle 17"/>
          <p:cNvSpPr/>
          <p:nvPr/>
        </p:nvSpPr>
        <p:spPr>
          <a:xfrm>
            <a:off x="928800" y="3214800"/>
            <a:ext cx="2011320" cy="1096920"/>
          </a:xfrm>
          <a:prstGeom prst="pie">
            <a:avLst/>
          </a:prstGeom>
          <a:solidFill>
            <a:srgbClr val="ffcc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Tahoma"/>
                <a:ea typeface="Tahoma"/>
              </a:rPr>
              <a:t>Regional &amp; National LR projects &amp; initia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nip and Round Single Corner Rectangle 18"/>
          <p:cNvSpPr/>
          <p:nvPr/>
        </p:nvSpPr>
        <p:spPr>
          <a:xfrm>
            <a:off x="6232680" y="4724280"/>
            <a:ext cx="2011320" cy="1158840"/>
          </a:xfrm>
          <a:prstGeom prst="pie">
            <a:avLst/>
          </a:prstGeom>
          <a:solidFill>
            <a:srgbClr val="ffcc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Research Infrastructures 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CLAR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nip and Round Single Corner Rectangle 19"/>
          <p:cNvSpPr/>
          <p:nvPr/>
        </p:nvSpPr>
        <p:spPr>
          <a:xfrm>
            <a:off x="3492360" y="4724280"/>
            <a:ext cx="2448000" cy="1195560"/>
          </a:xfrm>
          <a:prstGeom prst="pie">
            <a:avLst/>
          </a:prstGeom>
          <a:solidFill>
            <a:srgbClr val="ffcc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Tahoma"/>
                <a:ea typeface="Tahoma"/>
              </a:rPr>
              <a:t>Harvesting &amp; other Initia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LREC Map, Harvesting Day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FLaRe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nip and Round Single Corner Rectangle 20"/>
          <p:cNvSpPr/>
          <p:nvPr/>
        </p:nvSpPr>
        <p:spPr>
          <a:xfrm>
            <a:off x="905040" y="4786200"/>
            <a:ext cx="2011320" cy="1096920"/>
          </a:xfrm>
          <a:prstGeom prst="pie">
            <a:avLst/>
          </a:prstGeom>
          <a:solidFill>
            <a:srgbClr val="ffcc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Tahoma"/>
                <a:ea typeface="Tahoma"/>
              </a:rPr>
              <a:t>National Data Cent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nip and Round Single Corner Rectangle 21"/>
          <p:cNvSpPr/>
          <p:nvPr/>
        </p:nvSpPr>
        <p:spPr>
          <a:xfrm>
            <a:off x="6215040" y="3214800"/>
            <a:ext cx="2011320" cy="1096920"/>
          </a:xfrm>
          <a:prstGeom prst="pie">
            <a:avLst/>
          </a:prstGeom>
          <a:solidFill>
            <a:srgbClr val="ffcc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Tahoma"/>
                <a:ea typeface="Tahoma"/>
              </a:rPr>
              <a:t>Academic Catalogues &amp; Reposito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nip and Round Single Corner Rectangle 22"/>
          <p:cNvSpPr/>
          <p:nvPr/>
        </p:nvSpPr>
        <p:spPr>
          <a:xfrm>
            <a:off x="6215040" y="1643040"/>
            <a:ext cx="2103480" cy="1096920"/>
          </a:xfrm>
          <a:prstGeom prst="pie">
            <a:avLst/>
          </a:prstGeom>
          <a:solidFill>
            <a:srgbClr val="ffcc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ahoma"/>
                <a:ea typeface="Tahoma"/>
              </a:rPr>
              <a:t>LR Acquisition Proj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PANACEA, TTC, ACCURAT, LET’s M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eorgia"/>
                <a:ea typeface="MS PGothic"/>
              </a:rPr>
              <a:t>Building META-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eorgia"/>
              </a:rPr>
              <a:t>Features (1)                           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46016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64"/>
              </a:spcBef>
              <a:spcAft>
                <a:spcPts val="799"/>
              </a:spcAft>
              <a:buClr>
                <a:srgbClr val="802703"/>
              </a:buClr>
              <a:buSzPct val="75000"/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Georgia"/>
              </a:rPr>
              <a:t>A marketplace where language (and related) data and tools ar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800000"/>
              </a:buClr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Georgia"/>
              </a:rPr>
              <a:t>Documented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800000"/>
              </a:buClr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Georgia"/>
              </a:rPr>
              <a:t>Uploaded and stored in repositorie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800000"/>
              </a:buClr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Georgia"/>
              </a:rPr>
              <a:t>Catalogued and announced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800000"/>
              </a:buClr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Georgia"/>
              </a:rPr>
              <a:t>Downloaded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800000"/>
              </a:buClr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Georgia"/>
              </a:rPr>
              <a:t>Exchanged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800000"/>
              </a:buClr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Georgia"/>
              </a:rPr>
              <a:t>Combined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800000"/>
              </a:buClr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Georgia"/>
              </a:rPr>
              <a:t>Discussed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800000"/>
              </a:buClr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Georgia"/>
              </a:rPr>
              <a:t>Aiming to support a data economy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Datumsplatzhalter 6"/>
          <p:cNvSpPr/>
          <p:nvPr/>
        </p:nvSpPr>
        <p:spPr>
          <a:xfrm>
            <a:off x="457200" y="6356520"/>
            <a:ext cx="2133720" cy="365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7f7f7f"/>
                </a:solidFill>
                <a:latin typeface="Georgia"/>
              </a:rPr>
              <a:t>http://www.meta-net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oliennummernplatzhalt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716857-D3AA-483D-BECC-17425663B720}" type="slidenum">
              <a:rPr b="1" lang="en-US" sz="1400" spc="-1" strike="noStrike">
                <a:solidFill>
                  <a:srgbClr val="7f7f7f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eorgia"/>
              </a:rPr>
              <a:t>Features (2)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6016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64"/>
              </a:spcBef>
              <a:spcAft>
                <a:spcPts val="799"/>
              </a:spcAft>
              <a:buClr>
                <a:srgbClr val="802703"/>
              </a:buClr>
              <a:buSzPct val="75000"/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Georgia"/>
              </a:rPr>
              <a:t>Ever-evolving, scalable facility incl. free and for-a-fee LRs/LTs and services,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64"/>
              </a:spcBef>
              <a:spcAft>
                <a:spcPts val="799"/>
              </a:spcAft>
              <a:buClr>
                <a:srgbClr val="802703"/>
              </a:buClr>
              <a:buSzPct val="75000"/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Georgia"/>
              </a:rPr>
              <a:t>Legacy, contemporary and emerging datasets, tools and technologies, complying to legal, ethical and security related restrictions,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64"/>
              </a:spcBef>
              <a:spcAft>
                <a:spcPts val="799"/>
              </a:spcAft>
              <a:buClr>
                <a:srgbClr val="802703"/>
              </a:buClr>
              <a:buSzPct val="75000"/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Georgia"/>
              </a:rPr>
              <a:t>Distributed networked repositories accessible through common interfaces,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64"/>
              </a:spcBef>
              <a:spcAft>
                <a:spcPts val="799"/>
              </a:spcAft>
              <a:buClr>
                <a:srgbClr val="802703"/>
              </a:buClr>
              <a:buSzPct val="75000"/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Georgia"/>
              </a:rPr>
              <a:t>Standards-compliant, overcoming format, terminological and semantic differences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964"/>
              </a:spcBef>
              <a:spcAft>
                <a:spcPts val="7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Datumsplatzhalter 7"/>
          <p:cNvSpPr/>
          <p:nvPr/>
        </p:nvSpPr>
        <p:spPr>
          <a:xfrm>
            <a:off x="457200" y="6356520"/>
            <a:ext cx="2133720" cy="365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7f7f7f"/>
                </a:solidFill>
                <a:latin typeface="Georgia"/>
              </a:rPr>
              <a:t>http://www.meta-net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oliennummernplatzhalt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217558-F6A3-455A-BE05-02829F4CE10A}" type="slidenum">
              <a:rPr b="1" lang="en-US" sz="1400" spc="-1" strike="noStrike">
                <a:solidFill>
                  <a:srgbClr val="7f7f7f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Foliennummernplatzhalt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84F64F-7531-4424-A7C9-D44E603DD89A}" type="slidenum">
              <a:rPr b="1" lang="en-US" sz="1400" spc="-1" strike="noStrike">
                <a:solidFill>
                  <a:srgbClr val="7f7f7f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Datumsplatzhalter 7"/>
          <p:cNvSpPr/>
          <p:nvPr/>
        </p:nvSpPr>
        <p:spPr>
          <a:xfrm>
            <a:off x="457200" y="6356520"/>
            <a:ext cx="2133720" cy="365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7f7f7f"/>
                </a:solidFill>
                <a:latin typeface="Georgia"/>
              </a:rPr>
              <a:t>http://www.meta-net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Object 2"/>
          <p:cNvGraphicFramePr/>
          <p:nvPr/>
        </p:nvGraphicFramePr>
        <p:xfrm>
          <a:off x="755640" y="1176480"/>
          <a:ext cx="6840720" cy="509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176480"/>
                    <a:ext cx="6840720" cy="50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hat                             will be offering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6016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64"/>
              </a:spcBef>
              <a:spcAft>
                <a:spcPts val="799"/>
              </a:spcAft>
              <a:buClr>
                <a:srgbClr val="802703"/>
              </a:buClr>
              <a:buSzPct val="75000"/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 channel to share &amp; distribute language data and tools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964"/>
              </a:spcBef>
              <a:spcAft>
                <a:spcPts val="799"/>
              </a:spcAft>
              <a:buClr>
                <a:srgbClr val="802703"/>
              </a:buClr>
              <a:buSzPct val="75000"/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echnical solutions for building one’s own repositor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964"/>
              </a:spcBef>
              <a:spcAft>
                <a:spcPts val="799"/>
              </a:spcAft>
              <a:buClr>
                <a:srgbClr val="802703"/>
              </a:buClr>
              <a:buSzPct val="75000"/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rotocols and mechanisms for making the descriptions of resources (as well as the actual resources) harvestable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964"/>
              </a:spcBef>
              <a:spcAft>
                <a:spcPts val="799"/>
              </a:spcAft>
              <a:buClr>
                <a:srgbClr val="802703"/>
              </a:buClr>
              <a:buSzPct val="75000"/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Guidelines and recommendations on standards used in the LR production and documentation process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964"/>
              </a:spcBef>
              <a:spcAft>
                <a:spcPts val="799"/>
              </a:spcAft>
              <a:buClr>
                <a:srgbClr val="802703"/>
              </a:buClr>
              <a:buSzPct val="75000"/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Recommendations on data and tools licensing issu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964"/>
              </a:spcBef>
              <a:spcAft>
                <a:spcPts val="799"/>
              </a:spcAft>
              <a:buClr>
                <a:srgbClr val="802703"/>
              </a:buClr>
              <a:buSzPct val="75000"/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bove all, access to large catalogues of documented, high-quality resources, as well as the actual data &amp; tool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9" name="Datumsplatzhalter 7"/>
          <p:cNvSpPr/>
          <p:nvPr/>
        </p:nvSpPr>
        <p:spPr>
          <a:xfrm>
            <a:off x="457200" y="6356520"/>
            <a:ext cx="2133720" cy="365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7f7f7f"/>
                </a:solidFill>
                <a:latin typeface="Georgia"/>
              </a:rPr>
              <a:t>http://www.meta-net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oliennummernplatzhalt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6CA012-9B22-41AE-8F85-1145CF80137F}" type="slidenum">
              <a:rPr b="1" lang="en-US" sz="1400" spc="-1" strike="noStrike">
                <a:solidFill>
                  <a:srgbClr val="7f7f7f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8" descr="meta-share.png"/>
          <p:cNvPicPr/>
          <p:nvPr/>
        </p:nvPicPr>
        <p:blipFill>
          <a:blip r:embed="rId1"/>
          <a:stretch/>
        </p:blipFill>
        <p:spPr>
          <a:xfrm>
            <a:off x="1393920" y="598320"/>
            <a:ext cx="1809720" cy="3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etadata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46016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64"/>
              </a:spcBef>
              <a:spcAft>
                <a:spcPts val="799"/>
              </a:spcAft>
              <a:buClr>
                <a:srgbClr val="802703"/>
              </a:buClr>
              <a:buSzPct val="75000"/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Descriptions of </a:t>
            </a:r>
            <a:r>
              <a:rPr b="1" lang="en-GB" sz="1800" spc="-1" strike="noStrike">
                <a:solidFill>
                  <a:srgbClr val="000000"/>
                </a:solidFill>
                <a:latin typeface="Georgia"/>
              </a:rPr>
              <a:t>Language Resources (LRs)</a:t>
            </a: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, encompassing both </a:t>
            </a:r>
            <a:r>
              <a:rPr b="1" lang="en-GB" sz="1800" spc="-1" strike="noStrike">
                <a:solidFill>
                  <a:srgbClr val="000000"/>
                </a:solidFill>
                <a:latin typeface="Georgia"/>
              </a:rPr>
              <a:t>data</a:t>
            </a: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 (</a:t>
            </a:r>
            <a:r>
              <a:rPr b="0" i="1" lang="en-GB" sz="1800" spc="-1" strike="noStrike">
                <a:solidFill>
                  <a:srgbClr val="000000"/>
                </a:solidFill>
                <a:latin typeface="Georgia"/>
              </a:rPr>
              <a:t>textual, multimodal/multimedia and lexical</a:t>
            </a: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) and </a:t>
            </a:r>
            <a:r>
              <a:rPr b="1" lang="en-GB" sz="1800" spc="-1" strike="noStrike">
                <a:solidFill>
                  <a:srgbClr val="000000"/>
                </a:solidFill>
                <a:latin typeface="Georgia"/>
              </a:rPr>
              <a:t>tools/services/technologies</a:t>
            </a: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 used for their processing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22200" indent="-322200">
              <a:spcBef>
                <a:spcPts val="964"/>
              </a:spcBef>
              <a:spcAft>
                <a:spcPts val="799"/>
              </a:spcAft>
              <a:buClr>
                <a:srgbClr val="802703"/>
              </a:buClr>
              <a:buSzPct val="75000"/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Aim: to support META-SHARE users (incl. LRs providers and consumers) in all services provided (LR description, search and retrieval, monitoring of LRs and related objects, etc.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22200" indent="-322200">
              <a:spcBef>
                <a:spcPts val="964"/>
              </a:spcBef>
              <a:spcAft>
                <a:spcPts val="799"/>
              </a:spcAft>
              <a:buClr>
                <a:srgbClr val="802703"/>
              </a:buClr>
              <a:buSzPct val="75000"/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We’re not reinventing the wheel: </a:t>
            </a:r>
            <a:r>
              <a:rPr b="1" lang="en-GB" sz="1800" spc="-1" strike="noStrike">
                <a:solidFill>
                  <a:srgbClr val="000000"/>
                </a:solidFill>
                <a:latin typeface="Georgia"/>
              </a:rPr>
              <a:t>harmonize</a:t>
            </a: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 existing schemas and related initiatives and </a:t>
            </a:r>
            <a:r>
              <a:rPr b="1" lang="en-GB" sz="1800" spc="-1" strike="noStrike">
                <a:solidFill>
                  <a:srgbClr val="000000"/>
                </a:solidFill>
                <a:latin typeface="Georgia"/>
              </a:rPr>
              <a:t>adapt</a:t>
            </a: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 them to the requirements of the HLT community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22200" indent="-322200">
              <a:spcBef>
                <a:spcPts val="964"/>
              </a:spcBef>
              <a:spcAft>
                <a:spcPts val="799"/>
              </a:spcAft>
              <a:buClr>
                <a:srgbClr val="802703"/>
              </a:buClr>
              <a:buSzPct val="75000"/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main desiderata: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698400" indent="-268560">
              <a:spcBef>
                <a:spcPts val="213"/>
              </a:spcBef>
              <a:spcAft>
                <a:spcPts val="601"/>
              </a:spcAft>
              <a:buClr>
                <a:srgbClr val="800000"/>
              </a:buClr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clarity of semantics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- expressiveness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698400" indent="-268560">
              <a:spcBef>
                <a:spcPts val="213"/>
              </a:spcBef>
              <a:spcAft>
                <a:spcPts val="601"/>
              </a:spcAft>
              <a:buClr>
                <a:srgbClr val="800000"/>
              </a:buClr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flexibility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- customisability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698400" indent="-268560">
              <a:spcBef>
                <a:spcPts val="213"/>
              </a:spcBef>
              <a:spcAft>
                <a:spcPts val="601"/>
              </a:spcAft>
              <a:buClr>
                <a:srgbClr val="800000"/>
              </a:buClr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interoperability 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- user friendlines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698400" indent="-268560">
              <a:spcBef>
                <a:spcPts val="213"/>
              </a:spcBef>
              <a:spcAft>
                <a:spcPts val="601"/>
              </a:spcAft>
              <a:buClr>
                <a:srgbClr val="800000"/>
              </a:buClr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extensibility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- harvestability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698400" indent="-268560">
              <a:spcBef>
                <a:spcPts val="213"/>
              </a:spcBef>
              <a:spcAft>
                <a:spcPts val="601"/>
              </a:spcAft>
              <a:buClr>
                <a:srgbClr val="800000"/>
              </a:buClr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22200" indent="-322200">
              <a:spcBef>
                <a:spcPts val="964"/>
              </a:spcBef>
              <a:spcAft>
                <a:spcPts val="799"/>
              </a:spcAft>
              <a:buClr>
                <a:srgbClr val="802703"/>
              </a:buClr>
              <a:buSzPct val="75000"/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22200" indent="-322200">
              <a:spcBef>
                <a:spcPts val="964"/>
              </a:spcBef>
              <a:spcAft>
                <a:spcPts val="799"/>
              </a:spcAft>
              <a:buClr>
                <a:srgbClr val="802703"/>
              </a:buClr>
              <a:buSzPct val="75000"/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22200" indent="-322200">
              <a:spcBef>
                <a:spcPts val="964"/>
              </a:spcBef>
              <a:spcAft>
                <a:spcPts val="799"/>
              </a:spcAft>
              <a:buClr>
                <a:srgbClr val="802703"/>
              </a:buClr>
              <a:buSzPct val="75000"/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D9D318-6E77-4F44-85D6-44DC8E5AED90}" type="slidenum">
              <a:rPr b="1" lang="en-US" sz="1400" spc="-1" strike="noStrike">
                <a:solidFill>
                  <a:srgbClr val="7f7f7f"/>
                </a:solidFill>
                <a:latin typeface="Georgia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Datumsplatzhalter 7"/>
          <p:cNvSpPr/>
          <p:nvPr/>
        </p:nvSpPr>
        <p:spPr>
          <a:xfrm>
            <a:off x="457200" y="6356520"/>
            <a:ext cx="2133720" cy="365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7f7f7f"/>
                </a:solidFill>
                <a:latin typeface="Georgia"/>
              </a:rPr>
              <a:t>http://www.meta-net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Inhaltsplatzhalter 5" descr="META-Stripes.png"/>
          <p:cNvPicPr/>
          <p:nvPr/>
        </p:nvPicPr>
        <p:blipFill>
          <a:blip r:embed="rId1"/>
          <a:srcRect l="14999" t="62851" r="0" b="5010"/>
          <a:stretch/>
        </p:blipFill>
        <p:spPr>
          <a:xfrm>
            <a:off x="685800" y="177840"/>
            <a:ext cx="5181480" cy="9396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457200" y="146016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64"/>
              </a:spcBef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our scientific goals that have not yet been addressed systematically in the Machine Translation community are pursued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00000"/>
              </a:buClr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Bringing more 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semantics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nto translat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00000"/>
              </a:buClr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Optimising division of labour in Hybrid Machine Translation (consolidation of 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paradigms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00000"/>
              </a:buClr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xploiting the “context” for translation (e.g., 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multimedia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00000"/>
              </a:buClr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xtending the Empirical base for machine translation (using advanced 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machine learning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64"/>
              </a:spcBef>
              <a:spcAft>
                <a:spcPts val="799"/>
              </a:spcAft>
              <a:buClr>
                <a:srgbClr val="802703"/>
              </a:buClr>
              <a:buSzPct val="75000"/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Datumsplatzhalter 7"/>
          <p:cNvSpPr/>
          <p:nvPr/>
        </p:nvSpPr>
        <p:spPr>
          <a:xfrm>
            <a:off x="457200" y="6356520"/>
            <a:ext cx="2133720" cy="365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7f7f7f"/>
                </a:solidFill>
                <a:latin typeface="Georgia"/>
              </a:rPr>
              <a:t>http://www.meta-net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oliennummernplatzhalt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DF5F4F-82E6-415E-BCE7-88E9FA3DBB93}" type="slidenum">
              <a:rPr b="0" lang="en-US" sz="1200" spc="-1" strike="noStrike">
                <a:solidFill>
                  <a:srgbClr val="7f7f7f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How to Participate in META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46016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64"/>
              </a:spcBef>
              <a:spcAft>
                <a:spcPts val="799"/>
              </a:spcAft>
              <a:buClr>
                <a:srgbClr val="802703"/>
              </a:buClr>
              <a:buSzPct val="75000"/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META will officially be founded in November 2010 at an event in Brussels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64"/>
              </a:spcBef>
              <a:spcAft>
                <a:spcPts val="799"/>
              </a:spcAft>
              <a:buClr>
                <a:srgbClr val="802703"/>
              </a:buClr>
              <a:buSzPct val="75000"/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Members of META will be able to influence the technological development as well as funding activities supporting research and development of the European ICT field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64"/>
              </a:spcBef>
              <a:spcAft>
                <a:spcPts val="799"/>
              </a:spcAft>
              <a:buClr>
                <a:srgbClr val="802703"/>
              </a:buClr>
              <a:buSzPct val="75000"/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More information on how institutions and individuals working with language technology can participate in META will be published in the Spring/Summer of 2010 at online at </a:t>
            </a:r>
            <a:r>
              <a:rPr b="0" lang="de-DE" sz="2000" spc="-1" strike="noStrike" u="sng">
                <a:solidFill>
                  <a:srgbClr val="0000ff"/>
                </a:solidFill>
                <a:uFillTx/>
                <a:latin typeface="Georgia"/>
                <a:hlinkClick r:id="rId1"/>
              </a:rPr>
              <a:t>http://www.meta-net.eu</a:t>
            </a:r>
            <a:r>
              <a:rPr b="0" lang="de-DE" sz="20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64"/>
              </a:spcBef>
              <a:spcAft>
                <a:spcPts val="799"/>
              </a:spcAft>
              <a:buClr>
                <a:srgbClr val="802703"/>
              </a:buClr>
              <a:buSzPct val="75000"/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Datumsplatzhalter 6"/>
          <p:cNvSpPr/>
          <p:nvPr/>
        </p:nvSpPr>
        <p:spPr>
          <a:xfrm>
            <a:off x="457200" y="6356520"/>
            <a:ext cx="2133720" cy="365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7f7f7f"/>
                </a:solidFill>
                <a:latin typeface="Georgia"/>
              </a:rPr>
              <a:t>http://www.meta-net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oliennummernplatzhalt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9E00CE-DC24-469E-9D6E-8A9B35317AEA}" type="slidenum">
              <a:rPr b="0" lang="en-US" sz="1200" spc="-1" strike="noStrike">
                <a:solidFill>
                  <a:srgbClr val="7f7f7f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eorgia"/>
              </a:rPr>
              <a:t>Take Home Messag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46016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64"/>
              </a:spcBef>
              <a:spcAft>
                <a:spcPts val="799"/>
              </a:spcAft>
              <a:buClr>
                <a:srgbClr val="802703"/>
              </a:buClr>
              <a:buSzPct val="75000"/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Georgia"/>
              </a:rPr>
              <a:t>META-NET</a:t>
            </a:r>
            <a:r>
              <a:rPr b="0" lang="de-DE" sz="2000" spc="-1" strike="noStrike">
                <a:solidFill>
                  <a:srgbClr val="000000"/>
                </a:solidFill>
                <a:latin typeface="Georgia"/>
              </a:rPr>
              <a:t> is dedicated to the technological foundations of the European multilingual information society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64"/>
              </a:spcBef>
              <a:spcAft>
                <a:spcPts val="799"/>
              </a:spcAft>
              <a:buClr>
                <a:srgbClr val="802703"/>
              </a:buClr>
              <a:buSzPct val="75000"/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Georgia"/>
              </a:rPr>
              <a:t>Involved are applications tha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00000"/>
              </a:buClr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Georgia"/>
              </a:rPr>
              <a:t>enable communication and collaboration among people without language boundaries,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buClr>
                <a:srgbClr val="800000"/>
              </a:buClr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Georgia"/>
              </a:rPr>
              <a:t>secure users of any language equal access to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Georgia"/>
              </a:rPr>
              <a:t>the information and knowledge society, and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buClr>
                <a:srgbClr val="800000"/>
              </a:buClr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Georgia"/>
              </a:rPr>
              <a:t>include and push forward functionalities of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Georgia"/>
              </a:rPr>
              <a:t>networked information technology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de-DE" sz="2000" spc="-1" strike="noStrike" u="sng">
                <a:solidFill>
                  <a:srgbClr val="0000ff"/>
                </a:solidFill>
                <a:uFillTx/>
                <a:latin typeface="Georgia"/>
                <a:hlinkClick r:id="rId1"/>
              </a:rPr>
              <a:t>http://www.meta-net.eu</a:t>
            </a:r>
            <a:r>
              <a:rPr b="0" lang="de-DE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de-DE" sz="2000" spc="-1" strike="noStrike" u="sng">
                <a:solidFill>
                  <a:srgbClr val="0000ff"/>
                </a:solidFill>
                <a:uFillTx/>
                <a:latin typeface="Georgia"/>
                <a:hlinkClick r:id="rId2"/>
              </a:rPr>
              <a:t>office@meta-net.eu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6" name="Inhaltsplatzhalter 5" descr="META-Circle_small.gif"/>
          <p:cNvPicPr/>
          <p:nvPr/>
        </p:nvPicPr>
        <p:blipFill>
          <a:blip r:embed="rId3"/>
          <a:srcRect l="-48748" t="0" r="-48748" b="0"/>
          <a:stretch/>
        </p:blipFill>
        <p:spPr>
          <a:xfrm>
            <a:off x="4711680" y="3235320"/>
            <a:ext cx="4965840" cy="2784600"/>
          </a:xfrm>
          <a:prstGeom prst="rect">
            <a:avLst/>
          </a:prstGeom>
          <a:ln w="0">
            <a:noFill/>
          </a:ln>
        </p:spPr>
      </p:pic>
      <p:sp>
        <p:nvSpPr>
          <p:cNvPr id="257" name="Datumsplatzhalter 8"/>
          <p:cNvSpPr/>
          <p:nvPr/>
        </p:nvSpPr>
        <p:spPr>
          <a:xfrm>
            <a:off x="457200" y="6356520"/>
            <a:ext cx="2133720" cy="365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7f7f7f"/>
                </a:solidFill>
                <a:latin typeface="Georgia"/>
              </a:rPr>
              <a:t>http://www.meta-net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oliennummernplatzhalt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C1703C-8AFE-486F-B004-7A5EDA18A068}" type="slidenum">
              <a:rPr b="0" lang="en-US" sz="1200" spc="-1" strike="noStrike">
                <a:solidFill>
                  <a:srgbClr val="7f7f7f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7948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LARIN &amp; META-NE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64"/>
              </a:spcBef>
              <a:spcAft>
                <a:spcPts val="799"/>
              </a:spcAft>
              <a:buClr>
                <a:srgbClr val="802703"/>
              </a:buClr>
              <a:buSzPct val="75000"/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CLARIN and META-NET are complementary initiatives, serving different communities with different but harmonizing goals.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18960" indent="-318960">
              <a:lnSpc>
                <a:spcPct val="80000"/>
              </a:lnSpc>
              <a:spcBef>
                <a:spcPts val="964"/>
              </a:spcBef>
              <a:spcAft>
                <a:spcPts val="799"/>
              </a:spcAft>
              <a:buClr>
                <a:srgbClr val="802703"/>
              </a:buClr>
              <a:buSzPct val="75000"/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Shared interests and approaches have been identified with respect to methods and instruments in the area of language resource infrastructures concerning both technical solutions and organizational models.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18960" indent="-318960">
              <a:lnSpc>
                <a:spcPct val="80000"/>
              </a:lnSpc>
              <a:spcBef>
                <a:spcPts val="964"/>
              </a:spcBef>
              <a:spcAft>
                <a:spcPts val="799"/>
              </a:spcAft>
              <a:buClr>
                <a:srgbClr val="802703"/>
              </a:buClr>
              <a:buSzPct val="75000"/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common core metadata descriptions for categories of resources relevant to both initiatives could be envisaged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18960" indent="-318960">
              <a:lnSpc>
                <a:spcPct val="80000"/>
              </a:lnSpc>
              <a:spcBef>
                <a:spcPts val="964"/>
              </a:spcBef>
              <a:spcAft>
                <a:spcPts val="799"/>
              </a:spcAft>
              <a:buClr>
                <a:srgbClr val="802703"/>
              </a:buClr>
              <a:buSzPct val="75000"/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Common core metadata will enable cooperation, the possibility to link data objects and/or their descriptions, the exchange of data of interest to both communities and the way towards fostering standardisation (where and when possible and necessary) and interoperability. 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18960" indent="-318960">
              <a:lnSpc>
                <a:spcPct val="80000"/>
              </a:lnSpc>
              <a:spcBef>
                <a:spcPts val="964"/>
              </a:spcBef>
              <a:spcAft>
                <a:spcPts val="799"/>
              </a:spcAft>
              <a:buClr>
                <a:srgbClr val="802703"/>
              </a:buClr>
              <a:buSzPct val="75000"/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Implementation of data repositories, data identification procedures, as well as metadata harvesting protocols and tools constitute a field of collaboration.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690840" indent="-265680">
              <a:lnSpc>
                <a:spcPct val="80000"/>
              </a:lnSpc>
              <a:spcBef>
                <a:spcPts val="213"/>
              </a:spcBef>
              <a:spcAft>
                <a:spcPts val="601"/>
              </a:spcAft>
              <a:buClr>
                <a:srgbClr val="800000"/>
              </a:buClr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many existing solutions from the Digital Libraries world can be adopted by both projects and building blocks as well as basic software can be largely shared.</a:t>
            </a: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18960" indent="-318960">
              <a:lnSpc>
                <a:spcPct val="80000"/>
              </a:lnSpc>
              <a:spcBef>
                <a:spcPts val="964"/>
              </a:spcBef>
              <a:spcAft>
                <a:spcPts val="799"/>
              </a:spcAft>
              <a:buClr>
                <a:srgbClr val="802703"/>
              </a:buClr>
              <a:buSzPct val="75000"/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A first step towards cooperation between Clarin and META-NET — involving other stakeholders as well — has been the deliberation on an agreement concerning (emerging) standards. 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ETA-NE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46016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64"/>
              </a:spcBef>
              <a:spcAft>
                <a:spcPts val="799"/>
              </a:spcAft>
              <a:buClr>
                <a:srgbClr val="802703"/>
              </a:buClr>
              <a:buSzPct val="75000"/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s a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Network of Excellence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edicated to fostering the technological foundations of the European multilingual information societ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64"/>
              </a:spcBef>
              <a:spcAft>
                <a:spcPts val="799"/>
              </a:spcAft>
              <a:buClr>
                <a:srgbClr val="802703"/>
              </a:buClr>
              <a:buSzPct val="75000"/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213"/>
              </a:spcBef>
              <a:spcAft>
                <a:spcPts val="601"/>
              </a:spcAft>
              <a:buClr>
                <a:srgbClr val="800000"/>
              </a:buClr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213"/>
              </a:spcBef>
              <a:spcAft>
                <a:spcPts val="601"/>
              </a:spcAft>
              <a:buClr>
                <a:srgbClr val="800000"/>
              </a:buClr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213"/>
              </a:spcBef>
              <a:spcAft>
                <a:spcPts val="601"/>
              </a:spcAft>
              <a:buClr>
                <a:srgbClr val="800000"/>
              </a:buClr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213"/>
              </a:spcBef>
              <a:spcAft>
                <a:spcPts val="601"/>
              </a:spcAft>
              <a:buClr>
                <a:srgbClr val="800000"/>
              </a:buClr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213"/>
              </a:spcBef>
              <a:spcAft>
                <a:spcPts val="601"/>
              </a:spcAft>
              <a:buClr>
                <a:srgbClr val="800000"/>
              </a:buClr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Aft>
                <a:spcPts val="799"/>
              </a:spcAft>
              <a:buClr>
                <a:srgbClr val="802703"/>
              </a:buClr>
              <a:buSzPct val="75000"/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Datumsplatzhalter 8"/>
          <p:cNvSpPr/>
          <p:nvPr/>
        </p:nvSpPr>
        <p:spPr>
          <a:xfrm>
            <a:off x="457200" y="6356520"/>
            <a:ext cx="2133720" cy="365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7f7f7f"/>
                </a:solidFill>
                <a:latin typeface="Georgia"/>
              </a:rPr>
              <a:t>http://www.meta-net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liennummernplatzhalt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273A97-7371-4D7E-8287-7A70E6247BA2}" type="slidenum">
              <a:rPr b="1" lang="en-US" sz="1400" spc="-1" strike="noStrike">
                <a:solidFill>
                  <a:srgbClr val="7f7f7f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8" descr="META-NET-Logo_L_rgb.eps"/>
          <p:cNvPicPr/>
          <p:nvPr/>
        </p:nvPicPr>
        <p:blipFill>
          <a:blip r:embed="rId1">
            <a:lum bright="-2000"/>
          </a:blip>
          <a:stretch/>
        </p:blipFill>
        <p:spPr>
          <a:xfrm>
            <a:off x="928800" y="1501920"/>
            <a:ext cx="1714320" cy="331560"/>
          </a:xfrm>
          <a:prstGeom prst="rect">
            <a:avLst/>
          </a:prstGeom>
          <a:ln w="0">
            <a:noFill/>
          </a:ln>
        </p:spPr>
      </p:pic>
      <p:sp>
        <p:nvSpPr>
          <p:cNvPr id="115" name="Inhaltsplatzhalter 2"/>
          <p:cNvSpPr/>
          <p:nvPr/>
        </p:nvSpPr>
        <p:spPr>
          <a:xfrm>
            <a:off x="468360" y="2774880"/>
            <a:ext cx="8229600" cy="46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64"/>
              </a:spcBef>
              <a:spcAft>
                <a:spcPts val="799"/>
              </a:spcAft>
              <a:buClr>
                <a:srgbClr val="802703"/>
              </a:buClr>
              <a:buSzPct val="75000"/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Georgia"/>
              </a:rPr>
              <a:t>A large-scale concerted effort by building a strategic alliance of national and international research programmes, corporate users and commercial technology providers and language comm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4"/>
              </a:spcBef>
              <a:spcAft>
                <a:spcPts val="799"/>
              </a:spcAft>
              <a:buClr>
                <a:srgbClr val="802703"/>
              </a:buClr>
              <a:buSzPct val="75000"/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Georgia"/>
              </a:rPr>
              <a:t>Strengthen the European research community through research networking and new schemes and structures for sharing resources and eff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4"/>
              </a:spcBef>
              <a:spcAft>
                <a:spcPts val="799"/>
              </a:spcAft>
              <a:buClr>
                <a:srgbClr val="802703"/>
              </a:buClr>
              <a:buSzPct val="75000"/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Georgia"/>
              </a:rPr>
              <a:t>Build bridges by approaching open problems in collaboration with other research fields such as machine learning, social computing, cognitive systems, knowledge technologies and multimedia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4"/>
              </a:spcBef>
              <a:spcAft>
                <a:spcPts val="799"/>
              </a:spcAft>
              <a:buClr>
                <a:srgbClr val="802703"/>
              </a:buClr>
              <a:buSzPct val="75000"/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468360" y="1130040"/>
            <a:ext cx="8175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64"/>
              </a:spcBef>
              <a:spcAft>
                <a:spcPts val="7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lnSpc>
                <a:spcPct val="90000"/>
              </a:lnSpc>
              <a:spcBef>
                <a:spcPts val="964"/>
              </a:spcBef>
              <a:spcAft>
                <a:spcPts val="7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lnSpc>
                <a:spcPct val="90000"/>
              </a:lnSpc>
              <a:spcBef>
                <a:spcPts val="964"/>
              </a:spcBef>
              <a:spcAft>
                <a:spcPts val="7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lnSpc>
                <a:spcPct val="90000"/>
              </a:lnSpc>
              <a:spcBef>
                <a:spcPts val="964"/>
              </a:spcBef>
              <a:spcAft>
                <a:spcPts val="7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e46c0a"/>
                </a:solidFill>
                <a:latin typeface="Georgia"/>
              </a:rPr>
              <a:t>Thank you!!!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964"/>
              </a:spcBef>
              <a:spcAft>
                <a:spcPts val="7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Datumsplatzhalter 7"/>
          <p:cNvSpPr/>
          <p:nvPr/>
        </p:nvSpPr>
        <p:spPr>
          <a:xfrm>
            <a:off x="457200" y="6356520"/>
            <a:ext cx="2133720" cy="365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7f7f7f"/>
                </a:solidFill>
                <a:latin typeface="Georgia"/>
              </a:rPr>
              <a:t>http://www.meta-net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kkord 15"/>
          <p:cNvSpPr/>
          <p:nvPr/>
        </p:nvSpPr>
        <p:spPr>
          <a:xfrm rot="6761400">
            <a:off x="1299960" y="4911480"/>
            <a:ext cx="1935000" cy="2268360"/>
          </a:xfrm>
          <a:custGeom>
            <a:avLst/>
            <a:gdLst>
              <a:gd name="textAreaLeft" fmla="*/ 283320 w 1935000"/>
              <a:gd name="textAreaRight" fmla="*/ 1651680 w 1935000"/>
              <a:gd name="textAreaTop" fmla="*/ 331920 h 2268360"/>
              <a:gd name="textAreaBottom" fmla="*/ 1936440 h 2268360"/>
            </a:gdLst>
            <a:ahLst/>
            <a:rect l="textAreaLeft" t="textAreaTop" r="textAreaRight" b="textAreaBottom"/>
            <a:pathLst>
              <a:path w="2650662" h="2650662">
                <a:moveTo>
                  <a:pt x="2079951" y="2414850"/>
                </a:moveTo>
                <a:lnTo>
                  <a:pt x="2079950" y="2414849"/>
                </a:lnTo>
                <a:cubicBezTo>
                  <a:pt x="1858260" y="2568396"/>
                  <a:pt x="1595003" y="2650661"/>
                  <a:pt x="1325331" y="2650662"/>
                </a:cubicBezTo>
                <a:cubicBezTo>
                  <a:pt x="593370" y="2650662"/>
                  <a:pt x="0" y="2057291"/>
                  <a:pt x="0" y="1325331"/>
                </a:cubicBezTo>
                <a:cubicBezTo>
                  <a:pt x="-1" y="692814"/>
                  <a:pt x="446963" y="148449"/>
                  <a:pt x="1067383" y="25344"/>
                </a:cubicBezTo>
                <a:close/>
              </a:path>
            </a:pathLst>
          </a:custGeom>
          <a:gradFill rotWithShape="0">
            <a:gsLst>
              <a:gs pos="0">
                <a:srgbClr val="ffff9d"/>
              </a:gs>
              <a:gs pos="100000">
                <a:srgbClr val="e8de65"/>
              </a:gs>
            </a:gsLst>
            <a:lin ang="20238000"/>
          </a:gradFill>
          <a:ln w="9360">
            <a:solidFill>
              <a:srgbClr val="d7ce6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kkord 13"/>
          <p:cNvSpPr/>
          <p:nvPr/>
        </p:nvSpPr>
        <p:spPr>
          <a:xfrm rot="6761400">
            <a:off x="5337000" y="4911480"/>
            <a:ext cx="1935000" cy="2268720"/>
          </a:xfrm>
          <a:custGeom>
            <a:avLst/>
            <a:gdLst>
              <a:gd name="textAreaLeft" fmla="*/ 283320 w 1935000"/>
              <a:gd name="textAreaRight" fmla="*/ 1651680 w 1935000"/>
              <a:gd name="textAreaTop" fmla="*/ 332280 h 2268720"/>
              <a:gd name="textAreaBottom" fmla="*/ 1936440 h 2268720"/>
            </a:gdLst>
            <a:ahLst/>
            <a:rect l="textAreaLeft" t="textAreaTop" r="textAreaRight" b="textAreaBottom"/>
            <a:pathLst>
              <a:path w="2650662" h="2650662">
                <a:moveTo>
                  <a:pt x="2093513" y="2405331"/>
                </a:moveTo>
                <a:lnTo>
                  <a:pt x="2093512" y="2405330"/>
                </a:lnTo>
                <a:cubicBezTo>
                  <a:pt x="1869151" y="2564914"/>
                  <a:pt x="1600658" y="2650661"/>
                  <a:pt x="1325331" y="2650662"/>
                </a:cubicBezTo>
                <a:cubicBezTo>
                  <a:pt x="593370" y="2650662"/>
                  <a:pt x="0" y="2057291"/>
                  <a:pt x="0" y="1325331"/>
                </a:cubicBezTo>
                <a:cubicBezTo>
                  <a:pt x="-1" y="698700"/>
                  <a:pt x="438870" y="157702"/>
                  <a:pt x="1052032" y="28484"/>
                </a:cubicBezTo>
                <a:close/>
              </a:path>
            </a:pathLst>
          </a:custGeom>
          <a:gradFill rotWithShape="0">
            <a:gsLst>
              <a:gs pos="0">
                <a:srgbClr val="ffff9d"/>
              </a:gs>
              <a:gs pos="100000">
                <a:srgbClr val="e8de65"/>
              </a:gs>
            </a:gsLst>
            <a:lin ang="20238000"/>
          </a:gradFill>
          <a:ln w="9360">
            <a:solidFill>
              <a:srgbClr val="d7ce6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Sechseck 45"/>
          <p:cNvGrpSpPr/>
          <p:nvPr/>
        </p:nvGrpSpPr>
        <p:grpSpPr>
          <a:xfrm>
            <a:off x="1596960" y="1249200"/>
            <a:ext cx="6089760" cy="5102280"/>
            <a:chOff x="1596960" y="1249200"/>
            <a:chExt cx="6089760" cy="5102280"/>
          </a:xfrm>
        </p:grpSpPr>
        <p:pic>
          <p:nvPicPr>
            <p:cNvPr id="119" name="Sechseck 45" descr=""/>
            <p:cNvPicPr/>
            <p:nvPr/>
          </p:nvPicPr>
          <p:blipFill>
            <a:blip r:embed="rId1"/>
            <a:stretch/>
          </p:blipFill>
          <p:spPr>
            <a:xfrm>
              <a:off x="1596960" y="1249200"/>
              <a:ext cx="608976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2572200" y="2049480"/>
              <a:ext cx="4147560" cy="34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Akkord 30"/>
          <p:cNvSpPr/>
          <p:nvPr/>
        </p:nvSpPr>
        <p:spPr>
          <a:xfrm rot="6761400">
            <a:off x="6132960" y="5050440"/>
            <a:ext cx="1952640" cy="2075040"/>
          </a:xfrm>
          <a:custGeom>
            <a:avLst/>
            <a:gdLst>
              <a:gd name="textAreaLeft" fmla="*/ 285840 w 1952640"/>
              <a:gd name="textAreaRight" fmla="*/ 1666800 w 1952640"/>
              <a:gd name="textAreaTop" fmla="*/ 303840 h 2075040"/>
              <a:gd name="textAreaBottom" fmla="*/ 1771200 h 2075040"/>
            </a:gdLst>
            <a:ahLst/>
            <a:rect l="textAreaLeft" t="textAreaTop" r="textAreaRight" b="textAreaBottom"/>
            <a:pathLst>
              <a:path w="2237109" h="2237109">
                <a:moveTo>
                  <a:pt x="1766885" y="2030054"/>
                </a:moveTo>
                <a:lnTo>
                  <a:pt x="1766884" y="2030053"/>
                </a:lnTo>
                <a:cubicBezTo>
                  <a:pt x="1577527" y="2164739"/>
                  <a:pt x="1350925" y="2237108"/>
                  <a:pt x="1118554" y="2237109"/>
                </a:cubicBezTo>
                <a:cubicBezTo>
                  <a:pt x="500793" y="2237109"/>
                  <a:pt x="-1" y="1736314"/>
                  <a:pt x="-1" y="1118554"/>
                </a:cubicBezTo>
                <a:cubicBezTo>
                  <a:pt x="-2" y="589689"/>
                  <a:pt x="370397" y="133097"/>
                  <a:pt x="887894" y="24039"/>
                </a:cubicBezTo>
                <a:close/>
              </a:path>
            </a:pathLst>
          </a:custGeom>
          <a:gradFill rotWithShape="0">
            <a:gsLst>
              <a:gs pos="0">
                <a:srgbClr val="ffff9d"/>
              </a:gs>
              <a:gs pos="100000">
                <a:srgbClr val="e8de65"/>
              </a:gs>
            </a:gsLst>
            <a:lin ang="20238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kkord 31"/>
          <p:cNvSpPr/>
          <p:nvPr/>
        </p:nvSpPr>
        <p:spPr>
          <a:xfrm rot="6761400">
            <a:off x="988560" y="5061960"/>
            <a:ext cx="1952640" cy="2073240"/>
          </a:xfrm>
          <a:custGeom>
            <a:avLst/>
            <a:gdLst>
              <a:gd name="textAreaLeft" fmla="*/ 285840 w 1952640"/>
              <a:gd name="textAreaRight" fmla="*/ 1666800 w 1952640"/>
              <a:gd name="textAreaTop" fmla="*/ 303480 h 2073240"/>
              <a:gd name="textAreaBottom" fmla="*/ 1769760 h 2073240"/>
            </a:gdLst>
            <a:ahLst/>
            <a:rect l="textAreaLeft" t="textAreaTop" r="textAreaRight" b="textAreaBottom"/>
            <a:pathLst>
              <a:path w="2237109" h="2237109">
                <a:moveTo>
                  <a:pt x="1766885" y="2030054"/>
                </a:moveTo>
                <a:lnTo>
                  <a:pt x="1766884" y="2030053"/>
                </a:lnTo>
                <a:cubicBezTo>
                  <a:pt x="1577527" y="2164739"/>
                  <a:pt x="1350925" y="2237108"/>
                  <a:pt x="1118554" y="2237109"/>
                </a:cubicBezTo>
                <a:cubicBezTo>
                  <a:pt x="500793" y="2237109"/>
                  <a:pt x="-1" y="1736314"/>
                  <a:pt x="-1" y="1118554"/>
                </a:cubicBezTo>
                <a:cubicBezTo>
                  <a:pt x="-2" y="589689"/>
                  <a:pt x="370397" y="133097"/>
                  <a:pt x="887894" y="24039"/>
                </a:cubicBezTo>
                <a:close/>
              </a:path>
            </a:pathLst>
          </a:custGeom>
          <a:gradFill rotWithShape="0">
            <a:gsLst>
              <a:gs pos="0">
                <a:srgbClr val="ffff9d"/>
              </a:gs>
              <a:gs pos="100000">
                <a:srgbClr val="e8de65"/>
              </a:gs>
            </a:gsLst>
            <a:lin ang="20238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kkord 14"/>
          <p:cNvSpPr/>
          <p:nvPr/>
        </p:nvSpPr>
        <p:spPr>
          <a:xfrm rot="6761400">
            <a:off x="2446200" y="4687560"/>
            <a:ext cx="2311200" cy="2371680"/>
          </a:xfrm>
          <a:custGeom>
            <a:avLst/>
            <a:gdLst>
              <a:gd name="textAreaLeft" fmla="*/ 338400 w 2311200"/>
              <a:gd name="textAreaRight" fmla="*/ 1972800 w 2311200"/>
              <a:gd name="textAreaTop" fmla="*/ 347040 h 2371680"/>
              <a:gd name="textAreaBottom" fmla="*/ 2024640 h 2371680"/>
            </a:gdLst>
            <a:ahLst/>
            <a:rect l="textAreaLeft" t="textAreaTop" r="textAreaRight" b="textAreaBottom"/>
            <a:pathLst>
              <a:path w="2650662" h="2650662">
                <a:moveTo>
                  <a:pt x="2262482" y="2262482"/>
                </a:moveTo>
                <a:lnTo>
                  <a:pt x="2262481" y="2262481"/>
                </a:lnTo>
                <a:cubicBezTo>
                  <a:pt x="2013933" y="2511029"/>
                  <a:pt x="1676830" y="2650661"/>
                  <a:pt x="1325331" y="2650662"/>
                </a:cubicBezTo>
                <a:cubicBezTo>
                  <a:pt x="593370" y="2650662"/>
                  <a:pt x="0" y="2057291"/>
                  <a:pt x="0" y="1325331"/>
                </a:cubicBezTo>
                <a:cubicBezTo>
                  <a:pt x="-1" y="593370"/>
                  <a:pt x="593370" y="0"/>
                  <a:pt x="1325330" y="0"/>
                </a:cubicBezTo>
                <a:close/>
              </a:path>
            </a:pathLst>
          </a:custGeom>
          <a:gradFill rotWithShape="0">
            <a:gsLst>
              <a:gs pos="0">
                <a:srgbClr val="ffff9d"/>
              </a:gs>
              <a:gs pos="100000">
                <a:srgbClr val="e8de65"/>
              </a:gs>
            </a:gsLst>
            <a:lin ang="20238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kkord 12"/>
          <p:cNvSpPr/>
          <p:nvPr/>
        </p:nvSpPr>
        <p:spPr>
          <a:xfrm rot="6656400">
            <a:off x="4408920" y="4612320"/>
            <a:ext cx="2311560" cy="2455920"/>
          </a:xfrm>
          <a:custGeom>
            <a:avLst/>
            <a:gdLst>
              <a:gd name="textAreaLeft" fmla="*/ 338400 w 2311560"/>
              <a:gd name="textAreaRight" fmla="*/ 1973160 w 2311560"/>
              <a:gd name="textAreaTop" fmla="*/ 359640 h 2455920"/>
              <a:gd name="textAreaBottom" fmla="*/ 2096280 h 2455920"/>
            </a:gdLst>
            <a:ahLst/>
            <a:rect l="textAreaLeft" t="textAreaTop" r="textAreaRight" b="textAreaBottom"/>
            <a:pathLst>
              <a:path w="2650662" h="2650662">
                <a:moveTo>
                  <a:pt x="2262482" y="2262482"/>
                </a:moveTo>
                <a:lnTo>
                  <a:pt x="2262481" y="2262481"/>
                </a:lnTo>
                <a:cubicBezTo>
                  <a:pt x="2013933" y="2511029"/>
                  <a:pt x="1676830" y="2650661"/>
                  <a:pt x="1325331" y="2650662"/>
                </a:cubicBezTo>
                <a:cubicBezTo>
                  <a:pt x="593370" y="2650662"/>
                  <a:pt x="0" y="2057291"/>
                  <a:pt x="0" y="1325331"/>
                </a:cubicBezTo>
                <a:cubicBezTo>
                  <a:pt x="-1" y="593370"/>
                  <a:pt x="593370" y="0"/>
                  <a:pt x="1325330" y="0"/>
                </a:cubicBezTo>
                <a:close/>
              </a:path>
            </a:pathLst>
          </a:custGeom>
          <a:gradFill rotWithShape="0">
            <a:gsLst>
              <a:gs pos="0">
                <a:srgbClr val="ffff9d"/>
              </a:gs>
              <a:gs pos="100000">
                <a:srgbClr val="e8de65"/>
              </a:gs>
            </a:gsLst>
            <a:lin ang="20346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kkord 10"/>
          <p:cNvSpPr/>
          <p:nvPr/>
        </p:nvSpPr>
        <p:spPr>
          <a:xfrm rot="6574200">
            <a:off x="3487680" y="4295520"/>
            <a:ext cx="2206440" cy="2438640"/>
          </a:xfrm>
          <a:custGeom>
            <a:avLst/>
            <a:gdLst>
              <a:gd name="textAreaLeft" fmla="*/ 322920 w 2206440"/>
              <a:gd name="textAreaRight" fmla="*/ 1883520 w 2206440"/>
              <a:gd name="textAreaTop" fmla="*/ 357120 h 2438640"/>
              <a:gd name="textAreaBottom" fmla="*/ 2081520 h 2438640"/>
            </a:gdLst>
            <a:ahLst/>
            <a:rect l="textAreaLeft" t="textAreaTop" r="textAreaRight" b="textAreaBottom"/>
            <a:pathLst>
              <a:path w="2650662" h="2650662">
                <a:moveTo>
                  <a:pt x="2545212" y="1843397"/>
                </a:moveTo>
                <a:lnTo>
                  <a:pt x="2545212" y="1843397"/>
                </a:lnTo>
                <a:cubicBezTo>
                  <a:pt x="2337352" y="2332841"/>
                  <a:pt x="1857084" y="2650661"/>
                  <a:pt x="1325331" y="2650662"/>
                </a:cubicBezTo>
                <a:cubicBezTo>
                  <a:pt x="593370" y="2650662"/>
                  <a:pt x="0" y="2057291"/>
                  <a:pt x="0" y="1325331"/>
                </a:cubicBezTo>
                <a:cubicBezTo>
                  <a:pt x="0" y="593370"/>
                  <a:pt x="593370" y="0"/>
                  <a:pt x="1325331" y="0"/>
                </a:cubicBezTo>
                <a:cubicBezTo>
                  <a:pt x="1488008" y="-1"/>
                  <a:pt x="1649296" y="29949"/>
                  <a:pt x="1801130" y="88351"/>
                </a:cubicBezTo>
                <a:close/>
              </a:path>
            </a:pathLst>
          </a:custGeom>
          <a:gradFill rotWithShape="0">
            <a:gsLst>
              <a:gs pos="0">
                <a:srgbClr val="ffff9d"/>
              </a:gs>
              <a:gs pos="100000">
                <a:srgbClr val="e8de65"/>
              </a:gs>
            </a:gsLst>
            <a:lin ang="20424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Verbindungsstelle 16"/>
          <p:cNvSpPr/>
          <p:nvPr/>
        </p:nvSpPr>
        <p:spPr>
          <a:xfrm>
            <a:off x="1371600" y="3255840"/>
            <a:ext cx="1695600" cy="1141560"/>
          </a:xfrm>
          <a:prstGeom prst="flowChartConnector">
            <a:avLst/>
          </a:prstGeom>
          <a:gradFill rotWithShape="0">
            <a:gsLst>
              <a:gs pos="0">
                <a:srgbClr val="ffff9d"/>
              </a:gs>
              <a:gs pos="100000">
                <a:srgbClr val="e8de65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Georgia"/>
              </a:rPr>
              <a:t>language commun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Verbindungsstelle 20"/>
          <p:cNvSpPr/>
          <p:nvPr/>
        </p:nvSpPr>
        <p:spPr>
          <a:xfrm>
            <a:off x="2438280" y="1112760"/>
            <a:ext cx="1717920" cy="1139760"/>
          </a:xfrm>
          <a:prstGeom prst="flowChartConnector">
            <a:avLst/>
          </a:prstGeom>
          <a:gradFill rotWithShape="0">
            <a:gsLst>
              <a:gs pos="0">
                <a:srgbClr val="ffff9d"/>
              </a:gs>
              <a:gs pos="100000">
                <a:srgbClr val="e8de65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Georgia"/>
              </a:rPr>
              <a:t>policy makers and funding bod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Verbindungsstelle 21"/>
          <p:cNvSpPr/>
          <p:nvPr/>
        </p:nvSpPr>
        <p:spPr>
          <a:xfrm>
            <a:off x="5234040" y="1112760"/>
            <a:ext cx="1623960" cy="1139760"/>
          </a:xfrm>
          <a:prstGeom prst="flowChartConnector">
            <a:avLst/>
          </a:prstGeom>
          <a:gradFill rotWithShape="0">
            <a:gsLst>
              <a:gs pos="0">
                <a:srgbClr val="ffff9d"/>
              </a:gs>
              <a:gs pos="100000">
                <a:srgbClr val="e8de65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Georgia"/>
              </a:rPr>
              <a:t>user indus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Verbindungsstelle 22"/>
          <p:cNvSpPr/>
          <p:nvPr/>
        </p:nvSpPr>
        <p:spPr>
          <a:xfrm>
            <a:off x="6259680" y="3170160"/>
            <a:ext cx="1589040" cy="1185840"/>
          </a:xfrm>
          <a:prstGeom prst="flowChartConnector">
            <a:avLst/>
          </a:prstGeom>
          <a:gradFill rotWithShape="0">
            <a:gsLst>
              <a:gs pos="0">
                <a:srgbClr val="ffff9d"/>
              </a:gs>
              <a:gs pos="100000">
                <a:srgbClr val="e8de65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Georgia"/>
              </a:rPr>
              <a:t>provider indus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feld 24"/>
          <p:cNvSpPr/>
          <p:nvPr/>
        </p:nvSpPr>
        <p:spPr>
          <a:xfrm>
            <a:off x="3645000" y="5505480"/>
            <a:ext cx="193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Georgia"/>
              </a:rPr>
              <a:t>language technology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Georgia"/>
              </a:rPr>
              <a:t>commun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feld 25"/>
          <p:cNvSpPr/>
          <p:nvPr/>
        </p:nvSpPr>
        <p:spPr>
          <a:xfrm>
            <a:off x="5650560" y="5438880"/>
            <a:ext cx="1157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Georgia"/>
              </a:rPr>
              <a:t>mach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Georgia"/>
              </a:rPr>
              <a:t>learning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Georgia"/>
              </a:rPr>
              <a:t>commun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feld 26"/>
          <p:cNvSpPr/>
          <p:nvPr/>
        </p:nvSpPr>
        <p:spPr>
          <a:xfrm>
            <a:off x="2372400" y="5373720"/>
            <a:ext cx="1157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Georgia"/>
              </a:rPr>
              <a:t>semanti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Georgia"/>
              </a:rPr>
              <a:t>techno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Georgia"/>
              </a:rPr>
              <a:t>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Georgia"/>
              </a:rPr>
              <a:t>commun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feld 27"/>
          <p:cNvSpPr/>
          <p:nvPr/>
        </p:nvSpPr>
        <p:spPr>
          <a:xfrm>
            <a:off x="1378440" y="5526000"/>
            <a:ext cx="1157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Georgia"/>
              </a:rPr>
              <a:t>cogni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Georgia"/>
              </a:rPr>
              <a:t>systems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Georgia"/>
              </a:rPr>
              <a:t>commun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hteck 29"/>
          <p:cNvSpPr/>
          <p:nvPr/>
        </p:nvSpPr>
        <p:spPr>
          <a:xfrm>
            <a:off x="3478320" y="3278160"/>
            <a:ext cx="2388960" cy="654120"/>
          </a:xfrm>
          <a:prstGeom prst="rect">
            <a:avLst/>
          </a:prstGeom>
          <a:solidFill>
            <a:srgbClr val="ffff66">
              <a:alpha val="28000"/>
            </a:srgbClr>
          </a:solidFill>
          <a:ln w="9360">
            <a:solidFill>
              <a:srgbClr val="ffff66">
                <a:alpha val="69000"/>
              </a:srgbClr>
            </a:solidFill>
            <a:prstDash val="dot"/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feld 32"/>
          <p:cNvSpPr/>
          <p:nvPr/>
        </p:nvSpPr>
        <p:spPr>
          <a:xfrm>
            <a:off x="6609960" y="5335560"/>
            <a:ext cx="1168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Georgia"/>
              </a:rPr>
              <a:t>multime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Georgia"/>
              </a:rPr>
              <a:t>cont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Georgia"/>
              </a:rPr>
              <a:t>techno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Georgia"/>
              </a:rPr>
              <a:t>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hteck 35"/>
          <p:cNvSpPr/>
          <p:nvPr/>
        </p:nvSpPr>
        <p:spPr>
          <a:xfrm>
            <a:off x="4038480" y="3909960"/>
            <a:ext cx="330480" cy="331920"/>
          </a:xfrm>
          <a:prstGeom prst="rect">
            <a:avLst/>
          </a:prstGeom>
          <a:gradFill rotWithShape="0">
            <a:gsLst>
              <a:gs pos="0">
                <a:srgbClr val="ffff9d"/>
              </a:gs>
              <a:gs pos="100000">
                <a:srgbClr val="e8de65"/>
              </a:gs>
            </a:gsLst>
            <a:lin ang="5400000"/>
          </a:gradFill>
          <a:ln w="9360">
            <a:solidFill>
              <a:srgbClr val="ffcc6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hteck 36"/>
          <p:cNvSpPr/>
          <p:nvPr/>
        </p:nvSpPr>
        <p:spPr>
          <a:xfrm>
            <a:off x="4368960" y="3909960"/>
            <a:ext cx="328320" cy="331920"/>
          </a:xfrm>
          <a:prstGeom prst="rect">
            <a:avLst/>
          </a:prstGeom>
          <a:gradFill rotWithShape="0">
            <a:gsLst>
              <a:gs pos="0">
                <a:srgbClr val="ffff9d"/>
              </a:gs>
              <a:gs pos="100000">
                <a:srgbClr val="e8de65"/>
              </a:gs>
            </a:gsLst>
            <a:lin ang="5400000"/>
          </a:gradFill>
          <a:ln w="9360">
            <a:solidFill>
              <a:srgbClr val="ffcc6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hteck 37"/>
          <p:cNvSpPr/>
          <p:nvPr/>
        </p:nvSpPr>
        <p:spPr>
          <a:xfrm>
            <a:off x="4697280" y="3909960"/>
            <a:ext cx="330480" cy="331920"/>
          </a:xfrm>
          <a:prstGeom prst="rect">
            <a:avLst/>
          </a:prstGeom>
          <a:gradFill rotWithShape="0">
            <a:gsLst>
              <a:gs pos="0">
                <a:srgbClr val="ffff9d"/>
              </a:gs>
              <a:gs pos="100000">
                <a:srgbClr val="e8de65"/>
              </a:gs>
            </a:gsLst>
            <a:lin ang="5400000"/>
          </a:gradFill>
          <a:ln w="9360">
            <a:solidFill>
              <a:srgbClr val="ffcc6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hteck 38"/>
          <p:cNvSpPr/>
          <p:nvPr/>
        </p:nvSpPr>
        <p:spPr>
          <a:xfrm>
            <a:off x="5027760" y="3909960"/>
            <a:ext cx="328320" cy="331920"/>
          </a:xfrm>
          <a:prstGeom prst="rect">
            <a:avLst/>
          </a:prstGeom>
          <a:gradFill rotWithShape="0">
            <a:gsLst>
              <a:gs pos="0">
                <a:srgbClr val="ffff9d"/>
              </a:gs>
              <a:gs pos="100000">
                <a:srgbClr val="e8de65"/>
              </a:gs>
            </a:gsLst>
            <a:lin ang="5400000"/>
          </a:gradFill>
          <a:ln w="9360">
            <a:solidFill>
              <a:srgbClr val="ffcc6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Gerade Verbindung 43"/>
          <p:cNvSpPr/>
          <p:nvPr/>
        </p:nvSpPr>
        <p:spPr>
          <a:xfrm>
            <a:off x="4812480" y="5043600"/>
            <a:ext cx="1281240" cy="339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Gerade Verbindung 49"/>
          <p:cNvSpPr/>
          <p:nvPr/>
        </p:nvSpPr>
        <p:spPr>
          <a:xfrm>
            <a:off x="4906800" y="4835520"/>
            <a:ext cx="174168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Gerade Verbindung 55"/>
          <p:cNvSpPr/>
          <p:nvPr/>
        </p:nvSpPr>
        <p:spPr>
          <a:xfrm flipV="1">
            <a:off x="3094200" y="5043240"/>
            <a:ext cx="1272960" cy="315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Gerade Verbindung 61"/>
          <p:cNvSpPr/>
          <p:nvPr/>
        </p:nvSpPr>
        <p:spPr>
          <a:xfrm flipV="1">
            <a:off x="2593800" y="4835160"/>
            <a:ext cx="1681200" cy="338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Sechseck 65" descr=""/>
          <p:cNvPicPr/>
          <p:nvPr/>
        </p:nvPicPr>
        <p:blipFill>
          <a:blip r:embed="rId2"/>
          <a:stretch/>
        </p:blipFill>
        <p:spPr>
          <a:xfrm>
            <a:off x="1584360" y="1316160"/>
            <a:ext cx="6095880" cy="5103720"/>
          </a:xfrm>
          <a:prstGeom prst="rect">
            <a:avLst/>
          </a:prstGeom>
          <a:ln w="0">
            <a:noFill/>
          </a:ln>
        </p:spPr>
      </p:pic>
      <p:sp>
        <p:nvSpPr>
          <p:cNvPr id="145" name="Oval 11"/>
          <p:cNvSpPr/>
          <p:nvPr/>
        </p:nvSpPr>
        <p:spPr>
          <a:xfrm>
            <a:off x="3809880" y="4541760"/>
            <a:ext cx="1576440" cy="858960"/>
          </a:xfrm>
          <a:prstGeom prst="ellipse">
            <a:avLst/>
          </a:prstGeom>
          <a:solidFill>
            <a:srgbClr val="ffff66">
              <a:alpha val="9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eorgia"/>
              </a:rPr>
              <a:t>The                  Allianc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47" name="Bild 42" descr="MET-NET-Logo_S_cmyk.jpg"/>
          <p:cNvPicPr/>
          <p:nvPr/>
        </p:nvPicPr>
        <p:blipFill>
          <a:blip r:embed="rId3"/>
          <a:stretch/>
        </p:blipFill>
        <p:spPr>
          <a:xfrm>
            <a:off x="3794040" y="4724280"/>
            <a:ext cx="1540080" cy="452520"/>
          </a:xfrm>
          <a:prstGeom prst="rect">
            <a:avLst/>
          </a:prstGeom>
          <a:ln w="0">
            <a:noFill/>
          </a:ln>
        </p:spPr>
      </p:pic>
      <p:pic>
        <p:nvPicPr>
          <p:cNvPr id="148" name="Bild 46" descr="META-Logo_L_cmyk.jpg"/>
          <p:cNvPicPr/>
          <p:nvPr/>
        </p:nvPicPr>
        <p:blipFill>
          <a:blip r:embed="rId4"/>
          <a:stretch/>
        </p:blipFill>
        <p:spPr>
          <a:xfrm>
            <a:off x="3030480" y="2514600"/>
            <a:ext cx="3141720" cy="698400"/>
          </a:xfrm>
          <a:prstGeom prst="rect">
            <a:avLst/>
          </a:prstGeom>
          <a:ln w="0">
            <a:noFill/>
          </a:ln>
        </p:spPr>
      </p:pic>
      <p:sp>
        <p:nvSpPr>
          <p:cNvPr id="149" name="Datumsplatzhalter 44"/>
          <p:cNvSpPr/>
          <p:nvPr/>
        </p:nvSpPr>
        <p:spPr>
          <a:xfrm>
            <a:off x="457200" y="6356520"/>
            <a:ext cx="2133720" cy="365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7f7f7f"/>
                </a:solidFill>
                <a:latin typeface="Georgia"/>
              </a:rPr>
              <a:t>http://www.meta-net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FEE494-B93F-41EF-A69B-EEB5DB1ECB4B}" type="slidenum">
              <a:rPr b="1" lang="en-US" sz="1400" spc="-1" strike="noStrike">
                <a:solidFill>
                  <a:srgbClr val="7f7f7f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Bild 46" descr="META-Logo_L_cmyk.jpg"/>
          <p:cNvPicPr/>
          <p:nvPr/>
        </p:nvPicPr>
        <p:blipFill>
          <a:blip r:embed="rId5"/>
          <a:stretch/>
        </p:blipFill>
        <p:spPr>
          <a:xfrm>
            <a:off x="1071720" y="647640"/>
            <a:ext cx="1265040" cy="2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Lines of Ac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46016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64"/>
              </a:spcBef>
              <a:spcAft>
                <a:spcPts val="799"/>
              </a:spcAft>
              <a:buClr>
                <a:srgbClr val="802703"/>
              </a:buClr>
              <a:buSzPct val="75000"/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The                           objectives translate into three lines of action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Datumsplatzhalter 7"/>
          <p:cNvSpPr/>
          <p:nvPr/>
        </p:nvSpPr>
        <p:spPr>
          <a:xfrm>
            <a:off x="457200" y="6356520"/>
            <a:ext cx="2133720" cy="365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7f7f7f"/>
                </a:solidFill>
                <a:latin typeface="Georgia"/>
              </a:rPr>
              <a:t>http://www.meta-net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liennummernplatzhalt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2993A6-C4F4-456E-B204-31C5EFA15386}" type="slidenum">
              <a:rPr b="1" lang="en-US" sz="1400" spc="-1" strike="noStrike">
                <a:solidFill>
                  <a:srgbClr val="7f7f7f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8" descr="META-NET-Logo_L_rgb.eps"/>
          <p:cNvPicPr/>
          <p:nvPr/>
        </p:nvPicPr>
        <p:blipFill>
          <a:blip r:embed="rId1">
            <a:lum bright="-2000"/>
          </a:blip>
          <a:stretch/>
        </p:blipFill>
        <p:spPr>
          <a:xfrm>
            <a:off x="1428840" y="1500120"/>
            <a:ext cx="1474560" cy="285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3" descr="3lines.png"/>
          <p:cNvPicPr/>
          <p:nvPr/>
        </p:nvPicPr>
        <p:blipFill>
          <a:blip r:embed="rId2"/>
          <a:stretch/>
        </p:blipFill>
        <p:spPr>
          <a:xfrm>
            <a:off x="684360" y="2143080"/>
            <a:ext cx="7429320" cy="31212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5712840" y="3619440"/>
            <a:ext cx="12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Georgia"/>
              </a:rPr>
              <a:t>Fac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240160" y="2433600"/>
            <a:ext cx="3903840" cy="33526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457200" y="146016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64"/>
              </a:spcBef>
              <a:spcAft>
                <a:spcPts val="799"/>
              </a:spcAft>
              <a:buClr>
                <a:srgbClr val="802703"/>
              </a:buClr>
              <a:buSzPct val="75000"/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Georgia"/>
              </a:rPr>
              <a:t>Goal: </a:t>
            </a:r>
            <a:r>
              <a:rPr b="0" lang="de-DE" sz="2000" spc="-1" strike="noStrike">
                <a:solidFill>
                  <a:srgbClr val="000000"/>
                </a:solidFill>
                <a:latin typeface="Georgia"/>
              </a:rPr>
              <a:t>mobilize researchers, enablers, providers, (potential) users of technologies, and R&amp;D programmes for cooperation in </a:t>
            </a:r>
            <a:r>
              <a:rPr b="1" lang="de-DE" sz="2000" spc="-1" strike="noStrike">
                <a:solidFill>
                  <a:srgbClr val="000000"/>
                </a:solidFill>
                <a:latin typeface="Georgia"/>
              </a:rPr>
              <a:t>META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64"/>
              </a:spcBef>
              <a:spcAft>
                <a:spcPts val="799"/>
              </a:spcAft>
              <a:buClr>
                <a:srgbClr val="802703"/>
              </a:buClr>
              <a:buSzPct val="75000"/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Georgia"/>
              </a:rPr>
              <a:t>Means</a:t>
            </a:r>
            <a:r>
              <a:rPr b="0" lang="de-DE" sz="2000" spc="-1" strike="noStrike">
                <a:solidFill>
                  <a:srgbClr val="000000"/>
                </a:solidFill>
                <a:latin typeface="Georgia"/>
              </a:rPr>
              <a:t>: a large-scale joint action to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Survey </a:t>
            </a:r>
            <a:r>
              <a:rPr b="0" lang="de-DE" sz="1800" spc="-1" strike="noStrike">
                <a:solidFill>
                  <a:srgbClr val="000000"/>
                </a:solidFill>
                <a:latin typeface="Georgia"/>
              </a:rPr>
              <a:t>the </a:t>
            </a: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field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Georgia"/>
              </a:rPr>
              <a:t>Create a </a:t>
            </a: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shared vision </a:t>
            </a:r>
            <a:r>
              <a:rPr b="0" lang="de-DE" sz="1800" spc="-1" strike="noStrike">
                <a:solidFill>
                  <a:srgbClr val="000000"/>
                </a:solidFill>
                <a:latin typeface="Georgia"/>
              </a:rPr>
              <a:t>that feeds into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Georgia"/>
              </a:rPr>
              <a:t>a </a:t>
            </a: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Strategic Research Agenda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Build a multiplayer community </a:t>
            </a:r>
            <a:r>
              <a:rPr b="0" lang="de-DE" sz="1800" spc="-1" strike="noStrike">
                <a:solidFill>
                  <a:srgbClr val="000000"/>
                </a:solidFill>
                <a:latin typeface="Georgia"/>
              </a:rPr>
              <a:t>via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Georgia"/>
              </a:rPr>
              <a:t>external liaisons, promotion, etc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Spread knowledge </a:t>
            </a:r>
            <a:r>
              <a:rPr b="0" lang="de-DE" sz="1800" spc="-1" strike="noStrike">
                <a:solidFill>
                  <a:srgbClr val="000000"/>
                </a:solidFill>
                <a:latin typeface="Georgia"/>
              </a:rPr>
              <a:t>in training events</a:t>
            </a:r>
            <a:r>
              <a:rPr b="0" lang="de-DE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00000"/>
              </a:buClr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00000"/>
              </a:buClr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64"/>
              </a:spcBef>
              <a:spcAft>
                <a:spcPts val="799"/>
              </a:spcAft>
              <a:buClr>
                <a:srgbClr val="802703"/>
              </a:buClr>
              <a:buSzPct val="75000"/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64"/>
              </a:spcBef>
              <a:spcAft>
                <a:spcPts val="799"/>
              </a:spcAft>
              <a:buClr>
                <a:srgbClr val="802703"/>
              </a:buClr>
              <a:buSzPct val="75000"/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64"/>
              </a:spcBef>
              <a:spcAft>
                <a:spcPts val="799"/>
              </a:spcAft>
              <a:buClr>
                <a:srgbClr val="802703"/>
              </a:buClr>
              <a:buSzPct val="75000"/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64"/>
              </a:spcBef>
              <a:spcAft>
                <a:spcPts val="799"/>
              </a:spcAft>
              <a:buClr>
                <a:srgbClr val="802703"/>
              </a:buClr>
              <a:buSzPct val="75000"/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eorgia"/>
              </a:rPr>
              <a:t>Pillar III: Goals and Action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62" name="Inhaltsplatzhalter 5" descr="META-Stripes.png"/>
          <p:cNvPicPr/>
          <p:nvPr/>
        </p:nvPicPr>
        <p:blipFill>
          <a:blip r:embed="rId2"/>
          <a:srcRect l="0" t="-8453" r="0" b="69365"/>
          <a:stretch/>
        </p:blipFill>
        <p:spPr>
          <a:xfrm>
            <a:off x="457200" y="-76320"/>
            <a:ext cx="6095880" cy="1143000"/>
          </a:xfrm>
          <a:prstGeom prst="rect">
            <a:avLst/>
          </a:prstGeom>
          <a:ln w="0">
            <a:noFill/>
          </a:ln>
        </p:spPr>
      </p:pic>
      <p:sp>
        <p:nvSpPr>
          <p:cNvPr id="163" name="Datumsplatzhalter 7"/>
          <p:cNvSpPr/>
          <p:nvPr/>
        </p:nvSpPr>
        <p:spPr>
          <a:xfrm>
            <a:off x="457200" y="6356520"/>
            <a:ext cx="2133720" cy="365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7f7f7f"/>
                </a:solidFill>
                <a:latin typeface="Georgia"/>
              </a:rPr>
              <a:t>http://www.meta-net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oliennummernplatzhalt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B084C4-85D1-44A0-BE11-7E406DB17019}" type="slidenum">
              <a:rPr b="0" lang="en-US" sz="1200" spc="-1" strike="noStrike">
                <a:solidFill>
                  <a:srgbClr val="7f7f7f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eorgia"/>
              </a:rPr>
              <a:t>Building the Communit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46016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64"/>
              </a:spcBef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To involve major actors in the vision and planning process, a broad range of communities will be involved with different means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00000"/>
              </a:buClr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eorgia"/>
              </a:rPr>
              <a:t>Vision Groups</a:t>
            </a: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 will bring together researchers, developers, integrators and (actual or potential, corporate or professional) users of LT-based products, services and applications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00000"/>
              </a:buClr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eorgia"/>
              </a:rPr>
              <a:t>A Technology Council </a:t>
            </a: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will prepare a vision paper “European Multilingual Information Society 2020”,  a comprehensive roadmap including individual roadmaps for key socio-economic sectors, light-tower application visions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00000"/>
              </a:buClr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Finally, a </a:t>
            </a:r>
            <a:r>
              <a:rPr b="1" lang="en-GB" sz="2000" spc="-1" strike="noStrike">
                <a:solidFill>
                  <a:srgbClr val="000000"/>
                </a:solidFill>
                <a:latin typeface="Georgia"/>
              </a:rPr>
              <a:t>Strategic Research Agenda </a:t>
            </a: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(SRA) will be presented by the Council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64"/>
              </a:spcBef>
              <a:spcAft>
                <a:spcPts val="799"/>
              </a:spcAft>
              <a:buClr>
                <a:srgbClr val="802703"/>
              </a:buClr>
              <a:buSzPct val="75000"/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Datumsplatzhalter 6"/>
          <p:cNvSpPr/>
          <p:nvPr/>
        </p:nvSpPr>
        <p:spPr>
          <a:xfrm>
            <a:off x="457200" y="6356520"/>
            <a:ext cx="2133720" cy="365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7f7f7f"/>
                </a:solidFill>
                <a:latin typeface="Georgia"/>
              </a:rPr>
              <a:t>http://www.meta-net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oliennummernplatzhalt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04D662-899C-4296-B2B8-0F95A57B0C2D}" type="slidenum">
              <a:rPr b="0" lang="en-US" sz="1200" spc="-1" strike="noStrike">
                <a:solidFill>
                  <a:srgbClr val="7f7f7f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uilding                            : Observation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46016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64"/>
              </a:spcBef>
              <a:spcAft>
                <a:spcPts val="799"/>
              </a:spcAft>
              <a:buClr>
                <a:srgbClr val="802703"/>
              </a:buClr>
              <a:buSzPct val="75000"/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Georgia"/>
              </a:rPr>
              <a:t>Data has become a key factor in LT R&amp;D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213"/>
              </a:spcBef>
              <a:spcAft>
                <a:spcPts val="601"/>
              </a:spcAft>
              <a:buClr>
                <a:srgbClr val="800000"/>
              </a:buClr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Georgia"/>
              </a:rPr>
              <a:t>Increasing size and importance of the LREC conference, corpora mailing list etc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213"/>
              </a:spcBef>
              <a:spcAft>
                <a:spcPts val="601"/>
              </a:spcAft>
              <a:buClr>
                <a:srgbClr val="800000"/>
              </a:buClr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Georgia"/>
              </a:rPr>
              <a:t>1994 entries in the LREC2010 Map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213"/>
              </a:spcBef>
              <a:spcAft>
                <a:spcPts val="601"/>
              </a:spcAft>
              <a:buClr>
                <a:srgbClr val="800000"/>
              </a:buClr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Georgia"/>
              </a:rPr>
              <a:t>Increase of publications and citations on language resource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64"/>
              </a:spcBef>
              <a:spcAft>
                <a:spcPts val="799"/>
              </a:spcAft>
              <a:buClr>
                <a:srgbClr val="802703"/>
              </a:buClr>
              <a:buSzPct val="75000"/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Georgia"/>
              </a:rPr>
              <a:t>Language research and language technology well into the </a:t>
            </a:r>
            <a:r>
              <a:rPr b="1" lang="de-DE" sz="2000" spc="-1" strike="noStrike">
                <a:solidFill>
                  <a:srgbClr val="e46c0a"/>
                </a:solidFill>
                <a:latin typeface="Georgia"/>
              </a:rPr>
              <a:t>Data Intensive Paradigm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64"/>
              </a:spcBef>
              <a:spcAft>
                <a:spcPts val="799"/>
              </a:spcAft>
              <a:buClr>
                <a:srgbClr val="802703"/>
              </a:buClr>
              <a:buSzPct val="75000"/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Georgia"/>
              </a:rPr>
              <a:t>Data become considerably valuable through sharing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64"/>
              </a:spcBef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Datumsplatzhalter 7"/>
          <p:cNvSpPr/>
          <p:nvPr/>
        </p:nvSpPr>
        <p:spPr>
          <a:xfrm>
            <a:off x="457200" y="6356520"/>
            <a:ext cx="2133720" cy="365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7f7f7f"/>
                </a:solidFill>
                <a:latin typeface="Georgia"/>
              </a:rPr>
              <a:t>http://www.meta-net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oliennummernplatzhalt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D59B30-A4F1-4981-B564-3D6454B306F8}" type="slidenum">
              <a:rPr b="1" lang="en-US" sz="1400" spc="-1" strike="noStrike">
                <a:solidFill>
                  <a:srgbClr val="7f7f7f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8" descr="meta-share.png"/>
          <p:cNvPicPr/>
          <p:nvPr/>
        </p:nvPicPr>
        <p:blipFill>
          <a:blip r:embed="rId1"/>
          <a:stretch/>
        </p:blipFill>
        <p:spPr>
          <a:xfrm>
            <a:off x="1835280" y="598320"/>
            <a:ext cx="1809720" cy="30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46016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64"/>
              </a:spcBef>
              <a:spcAft>
                <a:spcPts val="799"/>
              </a:spcAft>
              <a:buClr>
                <a:srgbClr val="802703"/>
              </a:buClr>
              <a:buSzPct val="75000"/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Georgia"/>
              </a:rPr>
              <a:t>          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Georgia"/>
              </a:rPr>
              <a:t>is a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213"/>
              </a:spcBef>
              <a:spcAft>
                <a:spcPts val="601"/>
              </a:spcAft>
              <a:buClr>
                <a:srgbClr val="800000"/>
              </a:buClr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Georgia"/>
              </a:rPr>
              <a:t>ope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213"/>
              </a:spcBef>
              <a:spcAft>
                <a:spcPts val="601"/>
              </a:spcAft>
              <a:buClr>
                <a:srgbClr val="800000"/>
              </a:buClr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Georgia"/>
              </a:rPr>
              <a:t>integrated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213"/>
              </a:spcBef>
              <a:spcAft>
                <a:spcPts val="601"/>
              </a:spcAft>
              <a:buClr>
                <a:srgbClr val="800000"/>
              </a:buClr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Georgia"/>
              </a:rPr>
              <a:t>secur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213"/>
              </a:spcBef>
              <a:spcAft>
                <a:spcPts val="601"/>
              </a:spcAft>
              <a:buClr>
                <a:srgbClr val="800000"/>
              </a:buClr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Georgia"/>
              </a:rPr>
              <a:t>interoperabl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64"/>
              </a:spcBef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Georgia"/>
              </a:rPr>
              <a:t>exchange facility for language data and tools for the Human Language Technologies and other applicative domains (e.g., digital libraries, cognitive systems, robotics, etc) where language plays a critical role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" name="Datumsplatzhalter 6"/>
          <p:cNvSpPr/>
          <p:nvPr/>
        </p:nvSpPr>
        <p:spPr>
          <a:xfrm>
            <a:off x="457200" y="6356520"/>
            <a:ext cx="2133720" cy="365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7f7f7f"/>
                </a:solidFill>
                <a:latin typeface="Georgia"/>
              </a:rPr>
              <a:t>http://www.meta-net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oliennummernplatzhalt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B69265-0AF8-422F-8F13-9D713428EBA0}" type="slidenum">
              <a:rPr b="1" lang="en-US" sz="1400" spc="-1" strike="noStrike">
                <a:solidFill>
                  <a:srgbClr val="7f7f7f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7" descr="meta-share.png"/>
          <p:cNvPicPr/>
          <p:nvPr/>
        </p:nvPicPr>
        <p:blipFill>
          <a:blip r:embed="rId1"/>
          <a:stretch/>
        </p:blipFill>
        <p:spPr>
          <a:xfrm>
            <a:off x="500040" y="569880"/>
            <a:ext cx="2643120" cy="4525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meta-share.png"/>
          <p:cNvPicPr/>
          <p:nvPr/>
        </p:nvPicPr>
        <p:blipFill>
          <a:blip r:embed="rId2"/>
          <a:stretch/>
        </p:blipFill>
        <p:spPr>
          <a:xfrm>
            <a:off x="833400" y="1500120"/>
            <a:ext cx="1809720" cy="3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ntemporary LR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TextBox 3"/>
          <p:cNvSpPr/>
          <p:nvPr/>
        </p:nvSpPr>
        <p:spPr>
          <a:xfrm>
            <a:off x="571680" y="1460520"/>
            <a:ext cx="8115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1"/>
          <p:cNvSpPr/>
          <p:nvPr/>
        </p:nvSpPr>
        <p:spPr>
          <a:xfrm>
            <a:off x="7169040" y="1341360"/>
            <a:ext cx="1459080" cy="479520"/>
          </a:xfrm>
          <a:prstGeom prst="rect">
            <a:avLst/>
          </a:prstGeom>
          <a:solidFill>
            <a:srgbClr val="fabf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nno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7169040" y="1976400"/>
            <a:ext cx="1459080" cy="709560"/>
          </a:xfrm>
          <a:prstGeom prst="rect">
            <a:avLst/>
          </a:prstGeom>
          <a:solidFill>
            <a:srgbClr val="fabf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xtract 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3"/>
          <p:cNvSpPr/>
          <p:nvPr/>
        </p:nvSpPr>
        <p:spPr>
          <a:xfrm>
            <a:off x="7169040" y="2944800"/>
            <a:ext cx="1459080" cy="646200"/>
          </a:xfrm>
          <a:prstGeom prst="rect">
            <a:avLst/>
          </a:prstGeom>
          <a:solidFill>
            <a:srgbClr val="fabf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-engine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7169040" y="3710160"/>
            <a:ext cx="1459080" cy="877680"/>
          </a:xfrm>
          <a:prstGeom prst="rect">
            <a:avLst/>
          </a:prstGeom>
          <a:solidFill>
            <a:srgbClr val="fabf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build new conn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5"/>
          <p:cNvSpPr/>
          <p:nvPr/>
        </p:nvSpPr>
        <p:spPr>
          <a:xfrm>
            <a:off x="7169040" y="4637160"/>
            <a:ext cx="1459080" cy="1096920"/>
          </a:xfrm>
          <a:prstGeom prst="rect">
            <a:avLst/>
          </a:prstGeom>
          <a:solidFill>
            <a:srgbClr val="fabf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generate new 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6067080" y="1482480"/>
            <a:ext cx="1102320" cy="3634560"/>
            <a:chOff x="6067080" y="1482480"/>
            <a:chExt cx="1102320" cy="3634560"/>
          </a:xfrm>
        </p:grpSpPr>
        <p:cxnSp>
          <p:nvCxnSpPr>
            <p:cNvPr id="188" name="AutoShape 5"/>
            <p:cNvCxnSpPr/>
            <p:nvPr/>
          </p:nvCxnSpPr>
          <p:spPr>
            <a:xfrm flipH="1">
              <a:off x="6067080" y="1482840"/>
              <a:ext cx="2160" cy="3634560"/>
            </a:xfrm>
            <a:prstGeom prst="straightConnector1">
              <a:avLst/>
            </a:prstGeom>
            <a:ln w="25560">
              <a:solidFill>
                <a:srgbClr val="974706"/>
              </a:solidFill>
              <a:miter/>
            </a:ln>
          </p:spPr>
        </p:cxnSp>
        <p:cxnSp>
          <p:nvCxnSpPr>
            <p:cNvPr id="189" name="AutoShape 17"/>
            <p:cNvCxnSpPr/>
            <p:nvPr/>
          </p:nvCxnSpPr>
          <p:spPr>
            <a:xfrm>
              <a:off x="6067080" y="1482480"/>
              <a:ext cx="1099080" cy="1080"/>
            </a:xfrm>
            <a:prstGeom prst="straightConnector1">
              <a:avLst/>
            </a:prstGeom>
            <a:ln w="25560">
              <a:solidFill>
                <a:srgbClr val="974706"/>
              </a:solidFill>
              <a:miter/>
              <a:tailEnd len="med" type="triangle" w="med"/>
            </a:ln>
          </p:spPr>
        </p:cxnSp>
        <p:cxnSp>
          <p:nvCxnSpPr>
            <p:cNvPr id="190" name="AutoShape 18"/>
            <p:cNvCxnSpPr/>
            <p:nvPr/>
          </p:nvCxnSpPr>
          <p:spPr>
            <a:xfrm>
              <a:off x="6068880" y="2258640"/>
              <a:ext cx="1100880" cy="1080"/>
            </a:xfrm>
            <a:prstGeom prst="straightConnector1">
              <a:avLst/>
            </a:prstGeom>
            <a:ln w="25560">
              <a:solidFill>
                <a:srgbClr val="974706"/>
              </a:solidFill>
              <a:miter/>
              <a:tailEnd len="med" type="triangle" w="med"/>
            </a:ln>
          </p:spPr>
        </p:cxnSp>
        <p:cxnSp>
          <p:nvCxnSpPr>
            <p:cNvPr id="191" name="AutoShape 19"/>
            <p:cNvCxnSpPr/>
            <p:nvPr/>
          </p:nvCxnSpPr>
          <p:spPr>
            <a:xfrm>
              <a:off x="6067080" y="3263400"/>
              <a:ext cx="1099080" cy="1080"/>
            </a:xfrm>
            <a:prstGeom prst="straightConnector1">
              <a:avLst/>
            </a:prstGeom>
            <a:ln w="25560">
              <a:solidFill>
                <a:srgbClr val="974706"/>
              </a:solidFill>
              <a:miter/>
              <a:tailEnd len="med" type="triangle" w="med"/>
            </a:ln>
          </p:spPr>
        </p:cxnSp>
        <p:cxnSp>
          <p:nvCxnSpPr>
            <p:cNvPr id="192" name="AutoShape 20"/>
            <p:cNvCxnSpPr/>
            <p:nvPr/>
          </p:nvCxnSpPr>
          <p:spPr>
            <a:xfrm>
              <a:off x="6068880" y="4147920"/>
              <a:ext cx="1100880" cy="1080"/>
            </a:xfrm>
            <a:prstGeom prst="straightConnector1">
              <a:avLst/>
            </a:prstGeom>
            <a:ln w="25560">
              <a:solidFill>
                <a:srgbClr val="974706"/>
              </a:solidFill>
              <a:miter/>
              <a:tailEnd len="med" type="triangle" w="med"/>
            </a:ln>
          </p:spPr>
        </p:cxnSp>
        <p:cxnSp>
          <p:nvCxnSpPr>
            <p:cNvPr id="193" name="AutoShape 21"/>
            <p:cNvCxnSpPr/>
            <p:nvPr/>
          </p:nvCxnSpPr>
          <p:spPr>
            <a:xfrm>
              <a:off x="6067080" y="5116320"/>
              <a:ext cx="1099080" cy="1080"/>
            </a:xfrm>
            <a:prstGeom prst="straightConnector1">
              <a:avLst/>
            </a:prstGeom>
            <a:ln w="25560">
              <a:solidFill>
                <a:srgbClr val="974706"/>
              </a:solidFill>
              <a:miter/>
              <a:tailEnd len="med" type="triangle" w="med"/>
            </a:ln>
          </p:spPr>
        </p:cxnSp>
      </p:grpSp>
      <p:sp>
        <p:nvSpPr>
          <p:cNvPr id="194" name="Text Box 6"/>
          <p:cNvSpPr/>
          <p:nvPr/>
        </p:nvSpPr>
        <p:spPr>
          <a:xfrm>
            <a:off x="422280" y="2637000"/>
            <a:ext cx="1722600" cy="1950840"/>
          </a:xfrm>
          <a:prstGeom prst="rect">
            <a:avLst/>
          </a:prstGeom>
          <a:solidFill>
            <a:srgbClr val="f796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984806"/>
                </a:solidFill>
                <a:latin typeface="Calibri"/>
              </a:rPr>
              <a:t>Language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3255840" y="1353960"/>
            <a:ext cx="1698840" cy="1071720"/>
          </a:xfrm>
          <a:prstGeom prst="rect">
            <a:avLst/>
          </a:prstGeom>
          <a:solidFill>
            <a:srgbClr val="f796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alibri"/>
              </a:rPr>
              <a:t>language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3205080" y="2852640"/>
            <a:ext cx="1749600" cy="1005120"/>
          </a:xfrm>
          <a:prstGeom prst="rect">
            <a:avLst/>
          </a:prstGeom>
          <a:solidFill>
            <a:srgbClr val="f796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3205080" y="4257720"/>
            <a:ext cx="1749600" cy="1255680"/>
          </a:xfrm>
          <a:prstGeom prst="rect">
            <a:avLst/>
          </a:prstGeom>
          <a:solidFill>
            <a:srgbClr val="f796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related data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other media and mod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144880" y="1782360"/>
            <a:ext cx="1111320" cy="3159720"/>
            <a:chOff x="2144880" y="1782360"/>
            <a:chExt cx="1111320" cy="3159720"/>
          </a:xfrm>
        </p:grpSpPr>
        <p:cxnSp>
          <p:nvCxnSpPr>
            <p:cNvPr id="199" name="AutoShape 23"/>
            <p:cNvCxnSpPr/>
            <p:nvPr/>
          </p:nvCxnSpPr>
          <p:spPr>
            <a:xfrm>
              <a:off x="2144880" y="3870000"/>
              <a:ext cx="489600" cy="1080"/>
            </a:xfrm>
            <a:prstGeom prst="straightConnector1">
              <a:avLst/>
            </a:prstGeom>
            <a:ln w="25560">
              <a:solidFill>
                <a:srgbClr val="974706"/>
              </a:solidFill>
              <a:miter/>
            </a:ln>
          </p:spPr>
        </p:cxnSp>
        <p:cxnSp>
          <p:nvCxnSpPr>
            <p:cNvPr id="200" name="AutoShape 24"/>
            <p:cNvCxnSpPr/>
            <p:nvPr/>
          </p:nvCxnSpPr>
          <p:spPr>
            <a:xfrm>
              <a:off x="2633760" y="1782360"/>
              <a:ext cx="2160" cy="3159720"/>
            </a:xfrm>
            <a:prstGeom prst="straightConnector1">
              <a:avLst/>
            </a:prstGeom>
            <a:ln w="25560">
              <a:solidFill>
                <a:srgbClr val="974706"/>
              </a:solidFill>
              <a:miter/>
            </a:ln>
          </p:spPr>
        </p:cxnSp>
        <p:cxnSp>
          <p:nvCxnSpPr>
            <p:cNvPr id="201" name="AutoShape 25"/>
            <p:cNvCxnSpPr/>
            <p:nvPr/>
          </p:nvCxnSpPr>
          <p:spPr>
            <a:xfrm>
              <a:off x="2633760" y="1782720"/>
              <a:ext cx="622800" cy="2160"/>
            </a:xfrm>
            <a:prstGeom prst="straightConnector1">
              <a:avLst/>
            </a:prstGeom>
            <a:ln w="25560">
              <a:solidFill>
                <a:srgbClr val="974706"/>
              </a:solidFill>
              <a:miter/>
              <a:tailEnd len="med" type="triangle" w="med"/>
            </a:ln>
          </p:spPr>
        </p:cxnSp>
        <p:cxnSp>
          <p:nvCxnSpPr>
            <p:cNvPr id="202" name="AutoShape 26"/>
            <p:cNvCxnSpPr/>
            <p:nvPr/>
          </p:nvCxnSpPr>
          <p:spPr>
            <a:xfrm>
              <a:off x="2633400" y="4941360"/>
              <a:ext cx="572040" cy="1080"/>
            </a:xfrm>
            <a:prstGeom prst="straightConnector1">
              <a:avLst/>
            </a:prstGeom>
            <a:ln w="25560">
              <a:solidFill>
                <a:srgbClr val="974706"/>
              </a:solidFill>
              <a:miter/>
              <a:tailEnd len="med" type="triangle" w="med"/>
            </a:ln>
          </p:spPr>
        </p:cxnSp>
        <p:cxnSp>
          <p:nvCxnSpPr>
            <p:cNvPr id="203" name="AutoShape 27"/>
            <p:cNvCxnSpPr/>
            <p:nvPr/>
          </p:nvCxnSpPr>
          <p:spPr>
            <a:xfrm>
              <a:off x="2633400" y="3412800"/>
              <a:ext cx="572040" cy="1080"/>
            </a:xfrm>
            <a:prstGeom prst="straightConnector1">
              <a:avLst/>
            </a:prstGeom>
            <a:ln w="25560">
              <a:solidFill>
                <a:srgbClr val="974706"/>
              </a:solidFill>
              <a:miter/>
              <a:tailEnd len="med" type="triangle" w="med"/>
            </a:ln>
          </p:spPr>
        </p:cxnSp>
      </p:grpSp>
      <p:grpSp>
        <p:nvGrpSpPr>
          <p:cNvPr id="204" name=""/>
          <p:cNvGrpSpPr/>
          <p:nvPr/>
        </p:nvGrpSpPr>
        <p:grpSpPr>
          <a:xfrm>
            <a:off x="5060880" y="3075120"/>
            <a:ext cx="986040" cy="425160"/>
            <a:chOff x="5060880" y="3075120"/>
            <a:chExt cx="986040" cy="425160"/>
          </a:xfrm>
        </p:grpSpPr>
        <p:cxnSp>
          <p:nvCxnSpPr>
            <p:cNvPr id="205" name="AutoShape 3"/>
            <p:cNvCxnSpPr/>
            <p:nvPr/>
          </p:nvCxnSpPr>
          <p:spPr>
            <a:xfrm flipV="1">
              <a:off x="5795640" y="3282120"/>
              <a:ext cx="251640" cy="2520"/>
            </a:xfrm>
            <a:prstGeom prst="straightConnector1">
              <a:avLst/>
            </a:prstGeom>
            <a:ln w="25560">
              <a:solidFill>
                <a:srgbClr val="974706"/>
              </a:solidFill>
              <a:miter/>
            </a:ln>
          </p:spPr>
        </p:cxnSp>
        <p:sp>
          <p:nvSpPr>
            <p:cNvPr id="206" name="Text Box 10"/>
            <p:cNvSpPr/>
            <p:nvPr/>
          </p:nvSpPr>
          <p:spPr>
            <a:xfrm>
              <a:off x="5270400" y="3075120"/>
              <a:ext cx="525600" cy="42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2400" spc="-1" strike="noStrike">
                  <a:solidFill>
                    <a:srgbClr val="984806"/>
                  </a:solidFill>
                  <a:latin typeface="Calibri"/>
                </a:rPr>
                <a:t>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7" name="AutoShape 28"/>
            <p:cNvCxnSpPr/>
            <p:nvPr/>
          </p:nvCxnSpPr>
          <p:spPr>
            <a:xfrm>
              <a:off x="5060880" y="3284280"/>
              <a:ext cx="210240" cy="1080"/>
            </a:xfrm>
            <a:prstGeom prst="straightConnector1">
              <a:avLst/>
            </a:prstGeom>
            <a:ln w="25560">
              <a:solidFill>
                <a:srgbClr val="974706"/>
              </a:solidFill>
              <a:miter/>
            </a:ln>
          </p:spPr>
        </p:cxnSp>
      </p:grpSp>
      <p:sp>
        <p:nvSpPr>
          <p:cNvPr id="208" name="Datumsplatzhalter 7"/>
          <p:cNvSpPr/>
          <p:nvPr/>
        </p:nvSpPr>
        <p:spPr>
          <a:xfrm>
            <a:off x="457200" y="6356520"/>
            <a:ext cx="2133720" cy="365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7f7f7f"/>
                </a:solidFill>
                <a:latin typeface="Georgia"/>
              </a:rPr>
              <a:t>http://www.meta-net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oliennummernplatzhalt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58C757-314A-44A1-A57F-6B23449B8926}" type="slidenum">
              <a:rPr b="1" lang="en-US" sz="1400" spc="-1" strike="noStrike">
                <a:solidFill>
                  <a:srgbClr val="7f7f7f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3T21:33:36Z</dcterms:created>
  <dc:creator>Stelios Piperidis</dc:creator>
  <dc:description/>
  <dc:language>en-US</dc:language>
  <cp:lastModifiedBy>Stelios Piperidis</cp:lastModifiedBy>
  <dcterms:modified xsi:type="dcterms:W3CDTF">2010-05-22T13:30:05Z</dcterms:modified>
  <cp:revision>110</cp:revision>
  <dc:subject/>
  <dc:title>Slide 1</dc:title>
</cp:coreProperties>
</file>