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DEB-F7D7-48D3-951E-4EFAB383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261-C143-4447-8BE2-24CCE39A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16E-66BD-4EB3-B551-B478DFF0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221-1412-4D16-9264-A5936700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CE1-805A-42E3-BE50-565645A2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50F-7222-493A-9ACE-481AB9E6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C7F-2562-4B67-A02C-7D793A6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7D9-8070-40DA-9983-5996A052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D89-C17A-405D-A226-3529070F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C1A-23B7-41D3-B288-F492FCF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17B-B386-4440-903F-5BDEA72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121-BA5E-4A16-9BC6-B96E50F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480-4D4E-4604-BC02-BC0668900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frastructural initiatives on L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ata, Tools,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frastructural initiatives have different levels of generality, different purposes,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w do they compare? Which are their respectiive r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nergies? Complementarities? Overlappings? How to profit from each other? Which lessons and prior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832-F980-4BCB-9EA9-7EBC2F6ECB6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may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ress th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1C3-2719-4AA6-BD2F-CA2894037F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may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dress the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ich topics mostly deserve/require a worldwide effort for building consensus on prior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to cover many languages? Dial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ultilingualism as a unifying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to boost the interoperability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to draw  priorities per language? How to conduct a BLARK/ELARK for 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7F8-7F3B-4796-9C35-042CC11EBD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may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cosda (19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DC (19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RA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riental Cocosda 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S, CSLU, GSK, Chinese LD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LareNet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nguage Grid, CLARIN, Alag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ta-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A56-A31C-4EC2-B6C3-77A3D9B658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may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78040" y="1600200"/>
            <a:ext cx="558792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435080" y="58975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P. Paroub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3FE-0839-4D15-BB5B-0CF4AA7EB1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may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on strategies for the next years? In which framework? Local, regional, international frame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lations between political and technical issues? Inventory of the relevant initiatives in the various regions/countries? And directory of leading p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operation through the initiatives or by people (Consensus/cooperation through discussions or through act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FC1-F892-4BCA-95A1-4DA7089277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may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hich (realistic) modalities of cooperation among worldwide initiatives can be established, assuming differente gaps/languages? What is the best model for cooperation? Formal structures? Flexible models? Set up a permanent For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 only bottom-up initiatives of cooperation are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e FLaReNet-SILT (EC-NSF) co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DDE-3FA9-4A97-B807-0650B38F21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may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w to be proactive? Is it useful/possible to establish some form of « formal » cooperation between funding agencies as was done in the past (MLIM)…? Are there issues on which the respective agendas could be usefully coordi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ace for international cooperation programs? Are there instruments to b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eraction between research communities and funding agen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068-8261-488C-8827-F042B4761D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may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22:12:55Z</dcterms:created>
  <dc:creator> </dc:creator>
  <dc:description/>
  <dc:language>en-US</dc:language>
  <cp:lastModifiedBy> </cp:lastModifiedBy>
  <dcterms:modified xsi:type="dcterms:W3CDTF">2010-05-22T10:20:09Z</dcterms:modified>
  <cp:revision>15</cp:revision>
  <dc:subject/>
  <dc:title>Diapositive 1</dc:title>
</cp:coreProperties>
</file>