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C46-CA45-4548-873B-C6DE41C9A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9D82-AA24-472D-AFCE-9875C705A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3940-6A50-461B-A034-12D1A234A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59EF-10A4-4AD0-9168-6426B9255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24CA-DE25-42C9-BA9C-2D0D3E42F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4D44-FDDB-4BF5-9A3F-FF15B5E2D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2B58-8AEE-4FDE-B2C8-57FE968EE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B6AD-146B-454B-B5DC-062F43750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C998-2E65-4650-A24D-1D9090011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8563-D4A0-4E8B-A827-D6BE3687D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4B78-98C6-41B3-97F8-2C3D0144F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EEDD-BB61-496D-A3EE-D5DD85838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E477-A020-48A8-9FFE-1279E7A83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E411-62FA-477A-96A8-C21D35699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B58D-C285-4D35-B6A7-2ED6FF3BD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A853-4569-42AE-A018-4AC77BCDF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A322-F592-42B1-9734-93CB37BB4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6F54-6FFE-4EF9-80C8-02770EC57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0686-8EC1-43FF-86E4-964589E88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2639-1E82-410C-99BA-CBA6E399F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0B0E-0A24-4D60-AB53-51E9DEC6E1E4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Group 4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2410920" y="6381360"/>
            <a:ext cx="4465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Text Box 15"/>
          <p:cNvSpPr/>
          <p:nvPr/>
        </p:nvSpPr>
        <p:spPr>
          <a:xfrm>
            <a:off x="0" y="65833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N. Calzo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0" y="65833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N. Calzo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ourcebook.e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3428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LREC 2010 Map:</a:t>
            </a:r>
            <a:br>
              <a:rPr sz="4400"/>
            </a:br>
            <a:r>
              <a:rPr b="1" i="1" lang="en-GB" sz="4400" spc="-1" strike="noStrike">
                <a:solidFill>
                  <a:srgbClr val="ff0000"/>
                </a:solidFill>
                <a:latin typeface="Garamond"/>
              </a:rPr>
              <a:t>the picture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743200" y="52146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Garamond"/>
              </a:rPr>
              <a:t>Nicoletta Calzolar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" name="Picture 4" descr="Map2"/>
          <p:cNvPicPr/>
          <p:nvPr/>
        </p:nvPicPr>
        <p:blipFill>
          <a:blip r:embed="rId1"/>
          <a:stretch/>
        </p:blipFill>
        <p:spPr>
          <a:xfrm rot="20184000">
            <a:off x="-720360" y="434520"/>
            <a:ext cx="7881840" cy="3403800"/>
          </a:xfrm>
          <a:prstGeom prst="rect">
            <a:avLst/>
          </a:prstGeom>
          <a:ln w="0">
            <a:noFill/>
          </a:ln>
        </p:spPr>
      </p:pic>
      <p:sp>
        <p:nvSpPr>
          <p:cNvPr id="61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4E60-84C6-4FF0-B9BD-B8E17768C0CB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rot="20214000">
            <a:off x="228600" y="3962520"/>
            <a:ext cx="29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age courtesy of Wordle (</a:t>
            </a:r>
            <a:r>
              <a:rPr b="0" lang="en-GB" sz="1000" spc="-1" strike="noStrike">
                <a:solidFill>
                  <a:srgbClr val="9c0097"/>
                </a:solidFill>
                <a:latin typeface="Arial"/>
              </a:rPr>
              <a:t>http://www.wordle.ne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2"/>
          <a:stretch/>
        </p:blipFill>
        <p:spPr>
          <a:xfrm>
            <a:off x="928800" y="5572080"/>
            <a:ext cx="1000080" cy="9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7429680" y="5740560"/>
            <a:ext cx="1299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a 6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Many uses, in addition to being </a:t>
            </a:r>
            <a:r>
              <a:rPr b="1" lang="en-GB" sz="2200" spc="-1" strike="noStrike">
                <a:solidFill>
                  <a:srgbClr val="0000ff"/>
                </a:solidFill>
                <a:latin typeface="Garamond"/>
              </a:rPr>
              <a:t>an information gathering too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It may become a great instrument </a:t>
            </a:r>
            <a:r>
              <a:rPr b="1" lang="en-GB" sz="2200" spc="-1" strike="noStrike">
                <a:solidFill>
                  <a:srgbClr val="ff0000"/>
                </a:solidFill>
                <a:latin typeface="Garamond"/>
              </a:rPr>
              <a:t>for monitoring the evolution of the field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(useful also for funders), if applied in different contexts and times 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It can be seen as a huge joint effort, the beginning of an even larger </a:t>
            </a:r>
            <a:r>
              <a:rPr b="1" lang="en-GB" sz="2200" spc="-1" strike="noStrike">
                <a:solidFill>
                  <a:srgbClr val="ff0000"/>
                </a:solidFill>
                <a:latin typeface="Garamond"/>
              </a:rPr>
              <a:t>cooperative action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not just among few leaders but among all the researcher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It can thus become also an </a:t>
            </a:r>
            <a:r>
              <a:rPr b="1" lang="en-GB" sz="2200" spc="-1" strike="noStrike">
                <a:solidFill>
                  <a:srgbClr val="0000ff"/>
                </a:solidFill>
                <a:latin typeface="Garamond"/>
              </a:rPr>
              <a:t>“educational” means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towards the broad acknowledgment of the need of meta-research activities with the active involvement of many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It is also instrumental in introducing the </a:t>
            </a:r>
            <a:r>
              <a:rPr b="1" lang="en-GB" sz="2200" spc="-1" strike="noStrike">
                <a:solidFill>
                  <a:srgbClr val="ff0000"/>
                </a:solidFill>
                <a:latin typeface="Garamond"/>
              </a:rPr>
              <a:t>new notion of “citation of resources”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that could provide an award and a means of scholarly recognition for researchers engaged in resource creat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140-E3D7-496B-9389-6C4D11F14FE7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piè di pagina 4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Diagramma 8" descr=""/>
          <p:cNvPicPr/>
          <p:nvPr/>
        </p:nvPicPr>
        <p:blipFill>
          <a:blip r:embed="rId2"/>
          <a:stretch/>
        </p:blipFill>
        <p:spPr>
          <a:xfrm>
            <a:off x="3060720" y="444600"/>
            <a:ext cx="42973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Next steps??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 am proud of the fact that the Map is already being adopted in other contex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1" i="1" lang="en-GB" sz="2400" spc="-1" strike="noStrike">
                <a:solidFill>
                  <a:srgbClr val="0000ff"/>
                </a:solidFill>
                <a:latin typeface="Garamond"/>
              </a:rPr>
              <a:t>Language Resources and Evaluation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</a:rPr>
              <a:t> Journal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will also make use of it, as announced in the new Special Issue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LREC 2008: Selected papers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(freely accessible to all LREC participant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nd quite recently also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</a:rPr>
              <a:t>COLING 2010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has decided to make use of the Ma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e Map is taking its first steps outside home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FC5-C23D-460A-8907-236DF3EF3AEB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egnaposto piè di pagina 4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947760" y="857160"/>
            <a:ext cx="51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Available to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7215120" y="4714920"/>
            <a:ext cx="7239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Dissemination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6760" y="2785680"/>
            <a:ext cx="828684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resent at the 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EC Vill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First analyses on: </a:t>
            </a:r>
            <a:r>
              <a:rPr b="0" lang="en-GB" sz="2800" spc="-1" strike="noStrike" u="sng">
                <a:solidFill>
                  <a:srgbClr val="6600ff"/>
                </a:solidFill>
                <a:uFillTx/>
                <a:latin typeface="Garamond"/>
                <a:hlinkClick r:id="rId1"/>
              </a:rPr>
              <a:t>http://www.resourcebook.eu/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More will be added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veryone could add new analyse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There will be the possibility </a:t>
            </a: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to add info on new LRs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so independently from Conferences</a:t>
            </a: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4898-8E94-479C-A8A3-B59488ED7655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piè di pagina 4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egnaposto contenuto 2"/>
          <p:cNvSpPr/>
          <p:nvPr/>
        </p:nvSpPr>
        <p:spPr>
          <a:xfrm>
            <a:off x="214200" y="1071720"/>
            <a:ext cx="87156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The Map couldn’t happen without the contribution of all: it will be necessary to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We will tak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Next steps??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56800" y="1600200"/>
            <a:ext cx="75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Check intersection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f LRs in the Map with those of</a:t>
            </a: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 ELRA &amp; LDC catalogu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Integration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with existing catalogue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Source of information for META-SHA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..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A07F-3F49-4EC6-A300-AAD1B22933AD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egnaposto piè di pagina 4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757B-39A6-4DEB-8BD4-982A00541AA6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Next steps?? First suggestions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71320" y="1600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Discuss its adoption in COCOSDA meetings/ workshop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Garamond"/>
              </a:rPr>
              <a:t>..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9E7D-C04E-4B2A-9970-B913AB35890E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piè di pagina 4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4306-8A5D-4583-BCEC-2EDD48F39443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Why??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2971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The Map as an answer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o start to fill this gap, but al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o encourage the needed </a:t>
            </a: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“change in culture”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CasellaDiTesto 3"/>
          <p:cNvSpPr/>
          <p:nvPr/>
        </p:nvSpPr>
        <p:spPr>
          <a:xfrm>
            <a:off x="1214280" y="1500120"/>
            <a:ext cx="26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contenuto 2"/>
          <p:cNvSpPr/>
          <p:nvPr/>
        </p:nvSpPr>
        <p:spPr>
          <a:xfrm>
            <a:off x="500040" y="1143000"/>
            <a:ext cx="8443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Garamond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Lack of information and documentation about resources is, in the e-science paradigm, a very critical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Non documented resources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don’t exist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numero diapositiva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0A96-25FE-45CB-A60A-59DF2F6FA0FD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piè di pagina 7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tangolo 8"/>
          <p:cNvSpPr/>
          <p:nvPr/>
        </p:nvSpPr>
        <p:spPr>
          <a:xfrm>
            <a:off x="2143080" y="3929040"/>
            <a:ext cx="678672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Each researcher  must become aware of the importance of his/her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</a:rPr>
              <a:t>personal engagement in documenting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 task as important as creating new resources and not an accessory to be disreg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s the necessary </a:t>
            </a:r>
            <a:r>
              <a:rPr b="1" lang="en-GB" sz="2400" spc="-1" strike="noStrike">
                <a:solidFill>
                  <a:srgbClr val="0000ff"/>
                </a:solidFill>
                <a:latin typeface="Garamond"/>
              </a:rPr>
              <a:t>service to the whole community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at we all have to provide (take care of the forest and not only of your t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How many LRs?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74" name="Segnaposto contenuto 9" descr=""/>
          <p:cNvPicPr/>
          <p:nvPr/>
        </p:nvPicPr>
        <p:blipFill>
          <a:blip r:embed="rId1"/>
          <a:stretch/>
        </p:blipFill>
        <p:spPr>
          <a:xfrm>
            <a:off x="244440" y="2567160"/>
            <a:ext cx="9009000" cy="122364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3"/>
          <p:cNvSpPr/>
          <p:nvPr/>
        </p:nvSpPr>
        <p:spPr>
          <a:xfrm>
            <a:off x="1214280" y="1500120"/>
            <a:ext cx="26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gramma 10" descr=""/>
          <p:cNvPicPr/>
          <p:nvPr/>
        </p:nvPicPr>
        <p:blipFill>
          <a:blip r:embed="rId2"/>
          <a:stretch/>
        </p:blipFill>
        <p:spPr>
          <a:xfrm>
            <a:off x="450720" y="1127160"/>
            <a:ext cx="8510760" cy="1025640"/>
          </a:xfrm>
          <a:prstGeom prst="rect">
            <a:avLst/>
          </a:prstGeom>
          <a:ln w="0">
            <a:noFill/>
          </a:ln>
        </p:spPr>
      </p:pic>
      <p:sp>
        <p:nvSpPr>
          <p:cNvPr id="77" name="Segnaposto numero diapositiva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5789-FDDB-4B09-B646-4C75689F666C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egnaposto piè di pagina 7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57120" y="414324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4714920" y="4000680"/>
            <a:ext cx="3467160" cy="2562120"/>
          </a:xfrm>
          <a:prstGeom prst="rect">
            <a:avLst/>
          </a:prstGeom>
          <a:ln w="0">
            <a:noFill/>
          </a:ln>
        </p:spPr>
      </p:pic>
      <p:sp>
        <p:nvSpPr>
          <p:cNvPr id="81" name="Segnaposto numero diapositiva 1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CB96-8956-446B-A4F8-CF5ADEE76E70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egnaposto piè di pagina 12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Languages2"/>
          <p:cNvPicPr/>
          <p:nvPr/>
        </p:nvPicPr>
        <p:blipFill>
          <a:blip r:embed="rId1"/>
          <a:srcRect l="9275" t="14606" r="8595" b="24719"/>
          <a:stretch/>
        </p:blipFill>
        <p:spPr>
          <a:xfrm>
            <a:off x="0" y="2214720"/>
            <a:ext cx="9144000" cy="435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Languages: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But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obviously …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6E29-0865-4DE3-B11B-1B8BF8863230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429080" y="214200"/>
            <a:ext cx="38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170</a:t>
            </a:r>
            <a:r>
              <a:rPr b="1" lang="it-IT" sz="4400" spc="-1" strike="noStrike">
                <a:solidFill>
                  <a:srgbClr val="ff0000"/>
                </a:solidFill>
                <a:latin typeface="Garamond"/>
              </a:rPr>
              <a:t>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tangolo 8"/>
          <p:cNvSpPr/>
          <p:nvPr/>
        </p:nvSpPr>
        <p:spPr>
          <a:xfrm>
            <a:off x="0" y="62866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e courtesy of Wordle (http://www.wordle.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857760" y="3571920"/>
            <a:ext cx="5019480" cy="3352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Languages &amp; Modality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2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374-7EEC-4BDE-AA15-7DA547A7FDFC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429080" y="214200"/>
            <a:ext cx="38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8"/>
          <p:cNvSpPr/>
          <p:nvPr/>
        </p:nvSpPr>
        <p:spPr>
          <a:xfrm>
            <a:off x="0" y="62866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e courtesy of Wordle (http://www.wordle.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4646880" cy="26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4191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Garamond"/>
              </a:rPr>
              <a:t>Applications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9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DF76-7791-429B-B343-B6CF619A8F00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928880" cy="277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2786040"/>
            <a:ext cx="5452920" cy="36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335480" y="1214280"/>
            <a:ext cx="4808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28960" y="214200"/>
            <a:ext cx="57578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Garamond"/>
              </a:rPr>
              <a:t>Most used Resources for some Applications</a:t>
            </a:r>
            <a:endParaRPr b="1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05" name="Diagramma 10" descr=""/>
          <p:cNvPicPr/>
          <p:nvPr/>
        </p:nvPicPr>
        <p:blipFill>
          <a:blip r:embed="rId1"/>
          <a:stretch/>
        </p:blipFill>
        <p:spPr>
          <a:xfrm>
            <a:off x="2030400" y="1487520"/>
            <a:ext cx="2773440" cy="3876480"/>
          </a:xfrm>
          <a:prstGeom prst="rect">
            <a:avLst/>
          </a:prstGeom>
          <a:ln w="0">
            <a:noFill/>
          </a:ln>
        </p:spPr>
      </p:pic>
      <p:sp>
        <p:nvSpPr>
          <p:cNvPr id="106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F7A0-7365-4A57-95C1-19D81EF28233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928880" cy="27702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ma 11" descr=""/>
          <p:cNvPicPr/>
          <p:nvPr/>
        </p:nvPicPr>
        <p:blipFill>
          <a:blip r:embed="rId3"/>
          <a:stretch/>
        </p:blipFill>
        <p:spPr>
          <a:xfrm>
            <a:off x="4584600" y="1785960"/>
            <a:ext cx="279108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Diagramma 12" descr=""/>
          <p:cNvPicPr/>
          <p:nvPr/>
        </p:nvPicPr>
        <p:blipFill>
          <a:blip r:embed="rId4"/>
          <a:stretch/>
        </p:blipFill>
        <p:spPr>
          <a:xfrm>
            <a:off x="6053040" y="2992320"/>
            <a:ext cx="274968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Garamond"/>
              </a:rPr>
              <a:t>New Resources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9800" y="1571760"/>
            <a:ext cx="23288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Garamond"/>
              </a:rPr>
              <a:t>New: 44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2D10-02E5-4319-8761-031E60BD75BE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7"/>
          <p:cNvSpPr/>
          <p:nvPr/>
        </p:nvSpPr>
        <p:spPr>
          <a:xfrm>
            <a:off x="3714840" y="3286080"/>
            <a:ext cx="17143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eely avail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257480" cy="181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43080" y="2571840"/>
            <a:ext cx="4929120" cy="327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3"/>
          <a:stretch/>
        </p:blipFill>
        <p:spPr>
          <a:xfrm>
            <a:off x="5357880" y="2214720"/>
            <a:ext cx="2428920" cy="44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4"/>
          <a:stretch/>
        </p:blipFill>
        <p:spPr>
          <a:xfrm>
            <a:off x="6643800" y="4857840"/>
            <a:ext cx="2143080" cy="428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5"/>
          <a:stretch/>
        </p:blipFill>
        <p:spPr>
          <a:xfrm>
            <a:off x="214200" y="4786200"/>
            <a:ext cx="2286000" cy="35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6"/>
          <a:stretch/>
        </p:blipFill>
        <p:spPr>
          <a:xfrm>
            <a:off x="511200" y="2714760"/>
            <a:ext cx="250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Garamond"/>
              </a:rPr>
              <a:t>Availability </a:t>
            </a:r>
            <a:endParaRPr b="1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3" name="Segnaposto numero diapositiva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F6D6-DAD1-4256-861E-61D02E316EB4}" type="slidenum">
              <a:rPr b="0" lang="it-I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gnaposto piè di pagina 6"/>
          <p:cNvSpPr/>
          <p:nvPr/>
        </p:nvSpPr>
        <p:spPr>
          <a:xfrm>
            <a:off x="2411280" y="638172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COCOSDA - FLaReNet @ LREC2010 – Mal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7"/>
          <p:cNvSpPr/>
          <p:nvPr/>
        </p:nvSpPr>
        <p:spPr>
          <a:xfrm>
            <a:off x="3714840" y="3286080"/>
            <a:ext cx="17143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eely avail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257480" cy="181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1808280" y="2643120"/>
            <a:ext cx="4840200" cy="3000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"/>
          <p:cNvPicPr/>
          <p:nvPr/>
        </p:nvPicPr>
        <p:blipFill>
          <a:blip r:embed="rId3"/>
          <a:stretch/>
        </p:blipFill>
        <p:spPr>
          <a:xfrm>
            <a:off x="6143760" y="2714760"/>
            <a:ext cx="2800080" cy="50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4"/>
          <a:stretch/>
        </p:blipFill>
        <p:spPr>
          <a:xfrm>
            <a:off x="285840" y="2571840"/>
            <a:ext cx="2531880" cy="35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"/>
          <p:cNvPicPr/>
          <p:nvPr/>
        </p:nvPicPr>
        <p:blipFill>
          <a:blip r:embed="rId5"/>
          <a:stretch/>
        </p:blipFill>
        <p:spPr>
          <a:xfrm>
            <a:off x="500040" y="5214960"/>
            <a:ext cx="1785960" cy="3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"/>
          <p:cNvPicPr/>
          <p:nvPr/>
        </p:nvPicPr>
        <p:blipFill>
          <a:blip r:embed="rId6"/>
          <a:stretch/>
        </p:blipFill>
        <p:spPr>
          <a:xfrm>
            <a:off x="3500280" y="2071800"/>
            <a:ext cx="1758960" cy="28548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16"/>
          <p:cNvSpPr/>
          <p:nvPr/>
        </p:nvSpPr>
        <p:spPr>
          <a:xfrm>
            <a:off x="4450320" y="5643720"/>
            <a:ext cx="46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wide majority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(54%) are free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1:35:22Z</dcterms:created>
  <dc:creator>Nicoletta</dc:creator>
  <dc:description/>
  <dc:language>en-US</dc:language>
  <cp:lastModifiedBy>Nicoletta Calzolari</cp:lastModifiedBy>
  <dcterms:modified xsi:type="dcterms:W3CDTF">2010-05-22T10:05:55Z</dcterms:modified>
  <cp:revision>81</cp:revision>
  <dc:subject/>
  <dc:title>LREC 2010 Map</dc:title>
</cp:coreProperties>
</file>