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A833-6393-4C12-AE21-CED423DA7F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EA07-3DE8-465D-A569-9E712B81C9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97C6-2532-44E5-8376-C57F93D67B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D27B-5787-4BDB-A6C5-4DBCC3A401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049C-8106-4709-9C17-81C0D42A34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864-828A-457C-8D5E-B3E981D6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6F1-9A82-47B6-BE54-0EC1FCD3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3530-ECE3-4409-B50F-FF74CD2D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ED37-2AEB-45F4-90A5-96B335B1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83C5-69C3-445B-B1EC-03A70B4A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830B-08CB-4968-86F8-DD21B835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365-C2A9-42CA-ADDD-414EAD48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D8E-1C55-47E1-AADE-5BC4834A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7AF-197D-4440-9ABA-EA1BC12E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ABE-28E8-4A72-BA46-3BCBF586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AA0-14F4-458A-B931-CE5C0434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C9E-B073-4415-A1F0-FCE0B128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70FB-1F7B-45E6-A69B-DA8DBA0745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5832360" y="0"/>
            <a:ext cx="3311640" cy="11588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5867280" cy="1158840"/>
          </a:xfrm>
          <a:prstGeom prst="rect">
            <a:avLst/>
          </a:prstGeom>
          <a:solidFill>
            <a:srgbClr val="bac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3200" y="1790280"/>
            <a:ext cx="775944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LARI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going international – why, and what to do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95440" y="4161960"/>
            <a:ext cx="77817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ven Krau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trecht institute of Linguistics UiL-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N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Krau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3DF-CE45-4E07-B2D8-D6804A2574D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-WRITE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prioriti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ccess to data and tools wherever they are, which presuppo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their existence is known (unfragmented and properly maintained catalo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they can be found and referred to (persistent identifiers, preserv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they are well-described (meta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they can operate together (stand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cation of the IPR jungle (licens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Krau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EAD-22E8-4E74-91AC-D5BE90A9C3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-WRITE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prioriti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cross language b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minimal coverage for all languages (BLARKs, BLARKet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and audience specif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zed BL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, education,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hrough national research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Krau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1CC-7DB9-4951-9489-F613FE7D773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-WRITE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riorities probably shared by the other infrastruc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end themselves for international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an be initiated by bottom-up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equire support from funders and policy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an be more effective if we act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start, make a plan and do some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Krau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32F-5C90-473E-A989-DAF82F1536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-WRITE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CLARI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319040"/>
            <a:ext cx="869328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on Language Resources and Technology Infrastructure (http://www.clarin.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ide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an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ederation of digital archiv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language data and tools (text, speech, multimodal, gesture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rget audienc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umanities and social scienc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chol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uniform single sign-on acc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the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ccess to language and speech technology tool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web servic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ieve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ipulate, enhance, explore and exploi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cov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 EU and associated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Krau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A6BD-66A8-4FD0-8F1C-6873AE14BD3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-WRITE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are the peo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9296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moment a core consortium of 36 partners in 26 EU and associated countries (and more to jo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ide the consortium over 160 contributing institutions in 33 countries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academic institutions active in language and speech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s consist typically of data, tools, or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Krau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4023-E67A-448A-B98E-8AED516646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-WRITE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dule &amp; who p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0120" y="1279080"/>
            <a:ext cx="851688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2008-1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reparatory pha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funded by the EU (grant 212230, 4.1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€) w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 additional funding from national govern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2011-1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onstruction pha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be jointly funded by the national govern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2013-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itation pha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be jointly funded by national govern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ossibly wi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EC con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Krau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BCD4-E38A-4B7A-B6BC-401B71A60D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-WRITE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mportant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628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LARIN is not about technology development or content creation, but aims at integrating what is available and making it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LARIN is not oriented towards markets, but serves the Humanities and Social Sciences (HSS) research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LARIN covers both historical and contemporary material in all mod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LARIN is interested in both language data and its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N finds all languages equally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Krau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395-61F0-43DA-B8A5-38DDA384E1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-WRITE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m I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N is all about language resources and technology, couldn’t exist wit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N is not a stand-alone incident but part of an evolving European infrastructure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chronically: Eagles, Elsnet, Telri, Enabler, Dam-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cally: Elda/Elra, Flarenet, Metanet, Cocosda-Write, e-Infra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atically: sister HSS infra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Krau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CAB-B40A-4170-B19E-661394F6BF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-WRITE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think internation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is global: ‘useful’ resources and tools can be found an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European infrastructure initiatives to bring players, resources and technologies together and to make them work together and share what they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very little to support this on an international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Krau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6AE-C27C-4990-9347-CA457005E2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-WRITE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per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ersonal international collaboration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institutional collaboration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k for doing research but not for infrastructure level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Krau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4C6F-EF3A-44B5-9DC4-DDC8EF6B74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-WRITE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n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 initiatives at the infrastructure level, I.e. between infra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on’t happen automa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be shaped differently from country to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infrastructure initiatives in excellent position to act as a launching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 between them necessary to avoid fragmentation and du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Krau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55B-60A1-438B-8520-BF58C94117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-WRITE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1:06:25Z</dcterms:created>
  <dc:creator>Steven Krauwer</dc:creator>
  <dc:description/>
  <dc:language>en-US</dc:language>
  <cp:lastModifiedBy>Steven Krauwer</cp:lastModifiedBy>
  <dcterms:modified xsi:type="dcterms:W3CDTF">2010-05-22T11:08:25Z</dcterms:modified>
  <cp:revision>11</cp:revision>
  <dc:subject/>
  <dc:title>CLARIN: trends, priorities, strategies </dc:title>
</cp:coreProperties>
</file>