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2040" y="0"/>
            <a:ext cx="831960" cy="90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990720"/>
            <a:ext cx="838188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88600" y="625968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cosda/flarenet@LREC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45280" y="632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35360" y="6335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C</a:t>
            </a:r>
            <a:fld id="{CF2A14BA-09B4-4389-AF01-B4DCBC0B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50120" y="4357440"/>
            <a:ext cx="43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alid Chouk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RA / ELDA, Paris,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05120"/>
            <a:ext cx="8229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osda reporting – European Sc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</a:t>
            </a: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&amp;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573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y own views … view of the sce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3880" y="2590560"/>
            <a:ext cx="5639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-15228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anguage &amp; Speech in Europe (EU)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 of EC funded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vs European level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Esprit to FP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iti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icial ones (Technolangue, Stevein, Clarin-NL, EVALI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programmes to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-15228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anguage &amp; Speech in Europe (EU)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 funded initiativ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90th ….. Large number of EC funded projects LR oriented (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initi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nes (Fr, NL, IT, G): technolangue, Stevin, I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vate Cooperation (e.g. LILA, SALA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5562720"/>
            <a:ext cx="38102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s is history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14720" y="2806560"/>
            <a:ext cx="2571840" cy="90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51600" y="2548080"/>
            <a:ext cx="3092400" cy="579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33400" y="1063800"/>
            <a:ext cx="3581640" cy="95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02680" y="1297080"/>
            <a:ext cx="134460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71360" y="209700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42960" y="5106960"/>
            <a:ext cx="61437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486560" y="3824280"/>
            <a:ext cx="1333440" cy="198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30560" y="227160"/>
            <a:ext cx="4709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echDat Family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560" y="-15228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anguage &amp; Speech in Europe (EU)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 funded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5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e.g. CHIL, TC-STAR, AMI/A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essive evaluation activities inc. CLEAR (Euro-USA co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5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“calm” perio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5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igent Information management (CLEF &amp;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5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with focus on MT (europeans, Med cooper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on evaluation (e.g. Euromatr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s (CLARIN, META-NET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-15228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anguage &amp; Speech in Europe (EU)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initi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: Quaero program, ANR funded projects (ETAPE, PROTO-MEDIA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: Theseus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6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herlands (CLARIN-NL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vate Coopera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less preeminent than by the pas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6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672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New vision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 to EC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7 mostly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nguage technologies, Cognitive, Info management EC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unit (infrastructures, international cooperation, e.g. CLARIN, MED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llect &amp; Strategy design e.g. Flare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uctur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 (Competi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“innovation” e.g. technology deployment focus on MT/Cross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ther) National initi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2600" indent="-30024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R, DGA in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2600" indent="-30024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U in Netherlands &amp; Fla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2600" indent="-30024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alan Basque other Spanish regional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2600" indent="-30024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19051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What is missing unclear …</a:t>
            </a:r>
            <a:endParaRPr b="1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European </a:t>
            </a:r>
            <a:r>
              <a:rPr b="1" lang="en-US" sz="2200" spc="-1" strike="noStrike">
                <a:solidFill>
                  <a:srgbClr val="969696"/>
                </a:solidFill>
                <a:latin typeface="Arial"/>
              </a:rPr>
              <a:t>shar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s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 sectorial consultation (summary re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projects from the 2009 ICT call and 9 projects from the 2009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-NET &amp; META-SHARE has started (H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RIN preparatory phase  (S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 Current FP7 Call on L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4038480"/>
            <a:ext cx="8762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strong evaluation infrastructure is mis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ELCT (FBK&amp;DFK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NE (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Laboratoire national de métrologie et d'essais, Fra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48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ther initiative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al Cat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RA HLT Evaluation Por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REC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N Virtual Language Observ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58:18Z</dcterms:created>
  <dc:creator>Khalid CHOUKRI</dc:creator>
  <dc:description/>
  <dc:language>en-US</dc:language>
  <cp:lastModifiedBy>Khalid</cp:lastModifiedBy>
  <cp:lastPrinted>2001-03-24T19:31:37Z</cp:lastPrinted>
  <dcterms:modified xsi:type="dcterms:W3CDTF">2010-05-22T08:38:11Z</dcterms:modified>
  <cp:revision>461</cp:revision>
  <dc:subject/>
  <dc:title>Diapositive 1</dc:title>
</cp:coreProperties>
</file>