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5B25-4A5A-4861-ACCE-842F2792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0B1-833B-4D3A-AEFE-9A4733E1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2DAF-EF89-4AE7-BA84-53E8D337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E40-F84B-4F44-AE93-CD6C0890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8E3-4624-45B5-96B4-441E033B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74FB-0363-4059-8CB0-D1429758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32E2-8C3B-4979-9153-F76EBCC9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F87-6214-492A-A4E1-E7D81BC0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D2C-F37F-4C01-83C1-4142B547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D08-5182-4AAD-B9BD-31B4F284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D91A-D7F4-4CBE-8606-6564A491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B50-EA26-449E-A5B9-C6AAD402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9EB1-1114-46C5-9E1C-545746E7D5D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-COCOSDA Activity Summary 2008 to d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at LREC-20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ta ,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 Campbell, Shyam Agraw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da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ssion of full pap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31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fication of accep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Aug. 31,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ssion of final pap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Sep. 30,20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ation for Authors/participant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.  15, 2010                     US$ 150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.  15,2010                     US$ 200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Registration (Negotiable Disco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sh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s Inv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specially from non-member/new-member countries such as Pakistan, Bangladesh, Sri  Lanka, Philippines, etc …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of Major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nual O-C workshops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-COCOSDA 2008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-COCOSDA 2009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Major Events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ation of Commemoration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-COCOSDA 2010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-C2008, Nov. 26-27, Kyoto, Jap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Organizer: ATR/N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in feature: commenmoration of 10 years of O-C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apers: 31 oral papers, 14 poster papers, all papers 6-page and peer revie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articipants: 65 registered,  from 16 countries/regions, where USA, France and Bhutan are not O-C memb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Satellite events: A-STAR meeting, Nov. 25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ountry reports: 13 reports from 13 members. (China, Hong Kong, India, Indonesia, Japan, Korea, Malaysia, Mongolia, Nepal, Singapore, Taiwan, Thailand and Vietnam. Nepal's report was presented in absent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-C2009, Aug. 10-12, Beijing, Ch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Organizer: Xinjiang University/ held at Tsinghu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Main featur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A. AESOP (Asian English Speech cOrpus Project) becomes a fixed O-C satellite meeting from 2009, held the day before O-C; Held on 9</a:t>
            </a:r>
            <a:r>
              <a:rPr b="0" lang="zh-TW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Aug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. Philippine joins O-C for the first tim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. NCMMSC(China's National Conference on Man Machine Speech Communication, Aug. 14-16, 2009) held after O-C2009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Papers: 25  6-page oral papers, peer reviewed,All papers in CD . Papers with selected ratings published in  proceedings IEEE Xplore inde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Participants: 51 registered, from 11 countries (China, Japan, India, Ireland, Korea, Malaysia, Philippines, Singapore, Taiwan, Thailand and Vietn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ountry reports: 13 reports from 13 members. (China, Hong Kong, India, Indonesia, Japan, Korea, Malaysia, Nepal, Philippines, Singapore, Taiwan, Thailand and Vietnam. Hong Kong, Malaysia, Nepal's reports were presented in absenti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Events 201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O-C book project comple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Book title: 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COMPUTER PROCESSING OF ASIAN SPOKEN LANGUAGES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(80 articles, over 400 p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Editors: Shuichi ITAHASHI, Japan and Chiu-yu TSENG, Taiw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Publisher: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PUBLISHING HOUSE JAPAN IN EXCLUSIVE COOPERATION WITH CONSIDERATION BOOKS, AN IMPRINT OF THE AMERICA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ontributors: 121 authors to previous O-C workshops 1998-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Due date: end of March, 2010/ Actually published/distributed to auth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Co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-181080" y="836640"/>
          <a:ext cx="9325080" cy="63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836640"/>
                    <a:ext cx="9325080" cy="63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Content (1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 of some Asian langua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0 artic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centers of speech corp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7 artic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ch corpora of Asian Langua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logue, 7 articl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ogue, conversation and meeting speech, 4 articl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car speech, 3 articl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learners’ speech, 3 articl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otional/expressive speech, 3 articl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Content (2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sodic corp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4 articl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lingual corpora, 4 articl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-switching speech corpora, 2 articl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and noise database, 3 artic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valuation of synthesizers and recogniz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s of performance evaluation, 4 articl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comparison, 3 artic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ion and labeling, 9 articl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tools, 7 artic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thographic transcription and Romanization of some Asian langu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7 articl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-COCOSDA-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s :   24-25, November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ue :  Kathmandu,Ne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Conference w/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SOP ,23 Nov.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er: Mr.Bhim Regmi , Tribhuvan Un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.Program: Shyam Agrawal / Y. Sagis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P Issued: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ay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erence Proceedings  All reviewed papers CD / usb Published book for IEEExplore recommended pap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erence information/Abstracts - bookl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6:37:19Z</dcterms:created>
  <dc:creator>cytling</dc:creator>
  <dc:description/>
  <dc:language>en-US</dc:language>
  <cp:lastModifiedBy>kiit</cp:lastModifiedBy>
  <dcterms:modified xsi:type="dcterms:W3CDTF">2010-05-22T05:40:16Z</dcterms:modified>
  <cp:revision>17</cp:revision>
  <dc:subject/>
  <dc:title>O-COCOSDA Activity Summary 2008 to date </dc:title>
</cp:coreProperties>
</file>