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A09-0799-4DA1-9E4C-5FCCDF96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2CA-EA98-46B8-AE1C-7692DA7E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DC0-ABBB-490E-82A0-F9FC8DE4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A1F-3E74-4B12-AF06-7223C2E5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BBF-5B6B-4F3B-9FEA-3FD3657F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153-480D-4D00-9A32-AD8D4732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58E-AD3B-4BA6-A808-1FB358CF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CA6-1AC3-4BD9-A44F-5C853A4C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062-B5D0-426F-84F8-27C895DB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8E3-F76D-4BE9-8778-823DF10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531-5DA8-44E9-B3B4-3FFBA1BB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4AB-4518-49A4-820C-E4E042E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032A-A70B-4C42-B954-9A759C42BB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24760" y="1704960"/>
            <a:ext cx="2019240" cy="1911240"/>
          </a:xfrm>
          <a:prstGeom prst="ellipse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47120" y="0"/>
            <a:ext cx="1496880" cy="280836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960" y="0"/>
            <a:ext cx="7898040" cy="361944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9120" y="471600"/>
            <a:ext cx="7640640" cy="27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3708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HGSｺﾞｼｯｸE"/>
                <a:ea typeface="HGSｺﾞｼｯｸE"/>
              </a:rPr>
              <a:t>Activities of Oriental COCOS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66760" y="3928680"/>
            <a:ext cx="671832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ITAHASHI Shui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Institute of Information Sciences and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University of Tsuk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1-1-1 Tennodai, Tsukuba 305-8573, </a:t>
            </a:r>
            <a:r>
              <a:rPr b="1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56340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CB0-1726-4AB8-B512-3392C49143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1960" y="0"/>
            <a:ext cx="8852040" cy="55728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3080" y="736560"/>
            <a:ext cx="72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73320" y="2158920"/>
            <a:ext cx="71848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GS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Preparation (’94–’9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GS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Hong Kong Meeting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GS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Tsukuba Workshop’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GS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Taipei Workshop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GS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Beijing Workshop’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GS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Taejon Workshop’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GSｺﾞｼｯｸ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Hua Hin Conference’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55548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828800"/>
            <a:ext cx="9144000" cy="85680"/>
            <a:chOff x="0" y="1828800"/>
            <a:chExt cx="9144000" cy="85680"/>
          </a:xfrm>
        </p:grpSpPr>
        <p:sp>
          <p:nvSpPr>
            <p:cNvPr id="52" name=""/>
            <p:cNvSpPr/>
            <p:nvPr/>
          </p:nvSpPr>
          <p:spPr>
            <a:xfrm>
              <a:off x="0" y="1828800"/>
              <a:ext cx="9144000" cy="42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91448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0" y="0"/>
          <a:ext cx="565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744-24A0-465F-BA0C-7773BE7BA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6120" y="0"/>
            <a:ext cx="8867880" cy="55080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4520" y="804960"/>
            <a:ext cx="74977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Oriental COCOSDA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64720" y="2274480"/>
            <a:ext cx="755964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5th Meeting of Oriental COCOSDA held jointly with SNLP (Symposium on Natural Language Processing) as SNLP-Oriental COCSDA20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May 9-11 in Hua Hin, Thaila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(Hua Hin: 200 km. southwest of Bangk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100 participants mostly from A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SNLP was initiated by NLP researchers in Thailand in 1993 and has been held biannu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55404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2048040"/>
            <a:ext cx="9144000" cy="85680"/>
            <a:chOff x="0" y="2048040"/>
            <a:chExt cx="9144000" cy="85680"/>
          </a:xfrm>
        </p:grpSpPr>
        <p:sp>
          <p:nvSpPr>
            <p:cNvPr id="61" name=""/>
            <p:cNvSpPr/>
            <p:nvPr/>
          </p:nvSpPr>
          <p:spPr>
            <a:xfrm>
              <a:off x="0" y="2048040"/>
              <a:ext cx="9144000" cy="42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" name=""/>
          <p:cNvGraphicFramePr/>
          <p:nvPr/>
        </p:nvGraphicFramePr>
        <p:xfrm>
          <a:off x="0" y="0"/>
          <a:ext cx="565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422-E7EB-4ABC-BE80-5E6832980E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6120" y="0"/>
            <a:ext cx="8867880" cy="55080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4520" y="804960"/>
            <a:ext cx="74977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Invited talk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52120" y="2201760"/>
            <a:ext cx="75596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GSｺﾞｼｯｸE"/>
              <a:buAutoNum type="arabicParenR"/>
              <a:tabLst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Prof. Emeritus H. Fujisaki (Univ. Tokyo):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Toward an Intelligent System for Academic Information Retrieval Through Human-Machine Spoken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2)   Prof. Fujisaki: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Modeling in the Study of Tonal Features of Speech with Application to Multilingual Speech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3)   Prof. Fangxin Chen (IBM China Research Lab.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Issues in Speech Synthesis for Tona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4)   Prof. T. Tokunaga (Tokyo Inst. of Tech.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Natural  Language Understanding and Actio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5)   Prof. D. Yarowsky (Johns Hopkins Univ.): </a:t>
            </a:r>
            <a:r>
              <a:rPr b="0" lang="en-US" sz="1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ross- Language Projection of Linguistic Knowledge via Aligned Bilingual Corpo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55404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2048040"/>
            <a:ext cx="9144000" cy="85680"/>
            <a:chOff x="0" y="2048040"/>
            <a:chExt cx="9144000" cy="85680"/>
          </a:xfrm>
        </p:grpSpPr>
        <p:sp>
          <p:nvSpPr>
            <p:cNvPr id="70" name=""/>
            <p:cNvSpPr/>
            <p:nvPr/>
          </p:nvSpPr>
          <p:spPr>
            <a:xfrm>
              <a:off x="0" y="2048040"/>
              <a:ext cx="9144000" cy="42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" name=""/>
          <p:cNvGraphicFramePr/>
          <p:nvPr/>
        </p:nvGraphicFramePr>
        <p:xfrm>
          <a:off x="0" y="0"/>
          <a:ext cx="565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E4D-98CB-4A92-B4E4-BF16F840E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6120" y="0"/>
            <a:ext cx="8867880" cy="55080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4520" y="804960"/>
            <a:ext cx="74977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Pres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37800" y="2187720"/>
            <a:ext cx="755964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57 oral presentations: 28 regular papers, 17 short papers, 8 COCOSDA papers and 4 student pap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23 from Thailand, 14 from Japan, 5 from China, 3 from Korea and India, 2 from Taiwan and one from Malaysia, Indonesia and Gu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Student papers:  all from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General presentations: parallel sessions for NLP and speech processing with two ro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55404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2048040"/>
            <a:ext cx="9144000" cy="85680"/>
            <a:chOff x="0" y="2048040"/>
            <a:chExt cx="9144000" cy="85680"/>
          </a:xfrm>
        </p:grpSpPr>
        <p:sp>
          <p:nvSpPr>
            <p:cNvPr id="79" name=""/>
            <p:cNvSpPr/>
            <p:nvPr/>
          </p:nvSpPr>
          <p:spPr>
            <a:xfrm>
              <a:off x="0" y="2048040"/>
              <a:ext cx="9144000" cy="42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0" y="0"/>
          <a:ext cx="565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783-A800-4F62-820B-93827EA21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6120" y="0"/>
            <a:ext cx="8867880" cy="55080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4520" y="804960"/>
            <a:ext cx="74977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Session ti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37800" y="2187720"/>
            <a:ext cx="755964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11 papers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(3 sessions)</a:t>
            </a: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for information retrieval and  information extraction, 7 papers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(2 sessions)</a:t>
            </a: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for pattern recognition, 3 papers for morpholog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6 papers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(2 sessions)</a:t>
            </a: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for NLP applic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2 papers for syntax, 4 papers for language resources, etc., 13 papers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(4 sessions)</a:t>
            </a: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for speech process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8 papers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(2 sessions)</a:t>
            </a: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for O-COCOSDA, and 4 papers </a:t>
            </a:r>
            <a:r>
              <a:rPr b="0" lang="en-US" sz="18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(2 sessions)</a:t>
            </a:r>
            <a:r>
              <a:rPr b="0" lang="en-US" sz="24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 by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55404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2048040"/>
            <a:ext cx="9144000" cy="85680"/>
            <a:chOff x="0" y="2048040"/>
            <a:chExt cx="9144000" cy="85680"/>
          </a:xfrm>
        </p:grpSpPr>
        <p:sp>
          <p:nvSpPr>
            <p:cNvPr id="88" name=""/>
            <p:cNvSpPr/>
            <p:nvPr/>
          </p:nvSpPr>
          <p:spPr>
            <a:xfrm>
              <a:off x="0" y="2048040"/>
              <a:ext cx="9144000" cy="42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0" name=""/>
          <p:cNvGraphicFramePr/>
          <p:nvPr/>
        </p:nvGraphicFramePr>
        <p:xfrm>
          <a:off x="0" y="0"/>
          <a:ext cx="565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08A-D1FA-4EC9-90E7-831113C7DD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6120" y="0"/>
            <a:ext cx="8867880" cy="55080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4520" y="804960"/>
            <a:ext cx="74977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OCOSDA sessio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37800" y="2187720"/>
            <a:ext cx="7559640" cy="41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GSｺﾞｼｯｸE"/>
              <a:buAutoNum type="arabicPeriod"/>
              <a:tabLst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Activities to Promote Speech Information Technology in Korea by Y-J Lee, B-W Kim, Y-N 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GSｺﾞｼｯｸE"/>
              <a:buAutoNum type="arabicPeriod"/>
              <a:tabLst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CIAIR speech corpus for real world speech recognitio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N. Kawaguchi, K. Takeda, S. Matsubara, I. Yokoo, T. It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K. Tatara, T. Shinde, F. Itak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GSｺﾞｼｯｸE"/>
              <a:buAutoNum type="arabicPeriod" startAt="3"/>
              <a:tabLst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Some Speech Researches and Data Collection Projects in Taiwan by H-C W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GSｺﾞｼｯｸE"/>
              <a:buAutoNum type="arabicPeriod" startAt="3"/>
              <a:tabLst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Progress Report on Corpus Development and Speech Technology in Thailand by R. Thongprasir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V. Sornlertlamvanich, P. Cotsomrong, S. Subevisa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S. Kanokph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77800"/>
                <a:tab algn="l" pos="105408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55404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2048040"/>
            <a:ext cx="9144000" cy="85680"/>
            <a:chOff x="0" y="2048040"/>
            <a:chExt cx="9144000" cy="85680"/>
          </a:xfrm>
        </p:grpSpPr>
        <p:sp>
          <p:nvSpPr>
            <p:cNvPr id="97" name=""/>
            <p:cNvSpPr/>
            <p:nvPr/>
          </p:nvSpPr>
          <p:spPr>
            <a:xfrm>
              <a:off x="0" y="2048040"/>
              <a:ext cx="9144000" cy="42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0" y="0"/>
          <a:ext cx="565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E68-ED8E-4745-81C6-6E68401A90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1960" y="0"/>
            <a:ext cx="8852040" cy="55728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43080" y="736560"/>
            <a:ext cx="72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COCOSDA sess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3320" y="2158920"/>
            <a:ext cx="71848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GSｺﾞｼｯｸ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The Issues on Spontaneous Speech Annotation by A-J Li, Z-G Y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(no participatip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GSｺﾞｼｯｸ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Creating an English speech database spoken by Japanese students for use with CALL system by M. Shimiz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Y. Tomiyama, M. Dantsuji, K. Shimi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GSｺﾞｼｯｸ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Indian spoken language databases by S. S. Agraw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GSｺﾞｼｯｸ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Mandarin Prosody Organization and the Role of Silence in Speech Prosody by S-H Bin, C-Y Tseng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55548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1828800"/>
            <a:ext cx="9144000" cy="85680"/>
            <a:chOff x="0" y="1828800"/>
            <a:chExt cx="9144000" cy="85680"/>
          </a:xfrm>
        </p:grpSpPr>
        <p:sp>
          <p:nvSpPr>
            <p:cNvPr id="106" name=""/>
            <p:cNvSpPr/>
            <p:nvPr/>
          </p:nvSpPr>
          <p:spPr>
            <a:xfrm>
              <a:off x="0" y="1828800"/>
              <a:ext cx="9144000" cy="42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191448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0" y="0"/>
          <a:ext cx="565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A11-67B5-4487-B061-CBBBFF9FAB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1960" y="0"/>
            <a:ext cx="8852040" cy="557280"/>
          </a:xfrm>
          <a:prstGeom prst="rect">
            <a:avLst/>
          </a:prstGeom>
          <a:solidFill>
            <a:srgbClr val="c1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3080" y="736560"/>
            <a:ext cx="72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73320" y="2158920"/>
            <a:ext cx="7184880" cy="34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Participation from India for the first time in Oriental COCOS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The next meeting is planned to be held in Singapore in June 24-26, 20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For more in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http://www.milab.is.tsukuba.ac.jp/o-cocosd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HGSｺﾞｼｯｸE"/>
              </a:rPr>
              <a:t>http://kind.siit.tu.ac.th/snlp-o-cocosda2002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555480" cy="6858000"/>
          </a:xfrm>
          <a:prstGeom prst="rect">
            <a:avLst/>
          </a:prstGeom>
          <a:solidFill>
            <a:srgbClr val="65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1828800"/>
            <a:ext cx="9144000" cy="85680"/>
            <a:chOff x="0" y="1828800"/>
            <a:chExt cx="9144000" cy="85680"/>
          </a:xfrm>
        </p:grpSpPr>
        <p:sp>
          <p:nvSpPr>
            <p:cNvPr id="115" name=""/>
            <p:cNvSpPr/>
            <p:nvPr/>
          </p:nvSpPr>
          <p:spPr>
            <a:xfrm>
              <a:off x="0" y="1828800"/>
              <a:ext cx="9144000" cy="42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191448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0" y="0"/>
          <a:ext cx="565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2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NLP-OC02, Hua Hin, Thailand      May 9-11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02E-E9CA-4C20-9E6D-E74FDA73CE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kamura</cp:lastModifiedBy>
  <dcterms:modified xsi:type="dcterms:W3CDTF">2002-09-13T09:49:34Z</dcterms:modified>
  <cp:revision>75</cp:revision>
  <dc:subject/>
  <dc:title>PowerPoint Presentation</dc:title>
</cp:coreProperties>
</file>