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556-0677-42C1-89C5-B44065F1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654-1917-45DA-9FC6-0373496B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4B5-A849-4568-964A-B2DEA45B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C57-E151-4355-8829-93EEAD68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ED3-5BC7-40EF-ADE5-1E1494B6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3AB-4224-48F3-8723-7A874648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E8A-F79C-41DE-959C-5408094B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EE5-8C96-4EA8-8E2A-DB78418C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E7B-53BA-44F5-91A9-9C964E7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FCB-A464-4E2D-AE50-B77F0CE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F5C-47F5-4CFD-BF09-08713A20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A22-7A74-45CD-AF69-84DEB934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72AD-F4A9-4074-A0A7-DDEDB2BB0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ff00"/>
                </a:solidFill>
                <a:latin typeface="Times New Roman"/>
              </a:rPr>
              <a:t>Human Language Technology (HLT) Initiatives in South Africa: </a:t>
            </a:r>
            <a:br>
              <a:rPr sz="4000"/>
            </a:br>
            <a:r>
              <a:rPr b="1" lang="de-CH" sz="4000" spc="-1" strike="noStrike">
                <a:solidFill>
                  <a:srgbClr val="ffff00"/>
                </a:solidFill>
                <a:latin typeface="Times New Roman"/>
              </a:rPr>
              <a:t>Report to COCOSDA 20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324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ustus Roux</a:t>
            </a:r>
            <a:r>
              <a:rPr b="0" lang="en-Z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ZA" sz="2400" spc="-1" strike="noStrike">
                <a:solidFill>
                  <a:srgbClr val="ffff00"/>
                </a:solidFill>
                <a:latin typeface="Times New Roman"/>
              </a:rPr>
              <a:t>(U Stellenbo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nja Bosch</a:t>
            </a:r>
            <a:r>
              <a:rPr b="0" lang="en-Z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ZA" sz="2400" spc="-1" strike="noStrike">
                <a:solidFill>
                  <a:srgbClr val="ffff00"/>
                </a:solidFill>
                <a:latin typeface="Times New Roman"/>
              </a:rPr>
              <a:t>(UNI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esbeth Botha</a:t>
            </a:r>
            <a:r>
              <a:rPr b="0" lang="en-Z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ZA" sz="2400" spc="-1" strike="noStrike">
                <a:solidFill>
                  <a:srgbClr val="ffff00"/>
                </a:solidFill>
                <a:latin typeface="Times New Roman"/>
              </a:rPr>
              <a:t>(U Pret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00"/>
                </a:solidFill>
                <a:latin typeface="Times New Roman"/>
              </a:rPr>
              <a:t>Aims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Optimise functioning of National Lexicographic Units and Terminolog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Establish a sustainable infrastructure for HLT development in South Africa as well as in Africa (through NEP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 2002 - Denver</a:t>
            </a: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stablishment of a Cent</a:t>
            </a:r>
            <a:r>
              <a:rPr b="1" lang="en-ZA" sz="2800" spc="-1" strike="noStrike">
                <a:solidFill>
                  <a:srgbClr val="ffff00"/>
                </a:solidFill>
                <a:latin typeface="Times New Roman"/>
              </a:rPr>
              <a:t>er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for Human Language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Virtual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volve expert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ational Lexicographic Units (NL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ational Language Service (N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Universities and Techni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upporting role : For government and non-government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 2002 - Denver</a:t>
            </a: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33720" y="609480"/>
            <a:ext cx="457200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tional)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182880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usable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peech resour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182880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men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ble OS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LT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1828800"/>
            <a:ext cx="19051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LT knowledge b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ool of 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3124080"/>
            <a:ext cx="19051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-ling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 / speech ba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124080"/>
            <a:ext cx="17528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-ling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h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l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2971800"/>
            <a:ext cx="3657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28195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28195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28195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297180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97180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523880"/>
            <a:ext cx="4572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129528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152388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52388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648320"/>
            <a:ext cx="43434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5486400"/>
            <a:ext cx="19810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ver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5486400"/>
            <a:ext cx="19810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rtiary Instit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arch and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5486400"/>
            <a:ext cx="19810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LT 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510552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86000" y="5105520"/>
            <a:ext cx="220968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5105520"/>
            <a:ext cx="205740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62120" y="9907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990720"/>
            <a:ext cx="0" cy="3886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87692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9907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990720"/>
            <a:ext cx="0" cy="3886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629400" y="48769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124080"/>
            <a:ext cx="175284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-ling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-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297180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 2002 - Denver</a:t>
            </a: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oad ah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00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ZA" sz="2800" spc="-1" strike="noStrike">
                <a:solidFill>
                  <a:srgbClr val="ffff00"/>
                </a:solidFill>
                <a:latin typeface="Times New Roman"/>
              </a:rPr>
              <a:t>Appoi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retariat for HLT </a:t>
            </a:r>
            <a:r>
              <a:rPr b="0" lang="en-ZA" sz="2800" spc="-1" strike="noStrike">
                <a:solidFill>
                  <a:srgbClr val="ffff00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e foundation of </a:t>
            </a:r>
            <a:r>
              <a:rPr b="0" lang="en-ZA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ZA" sz="2400" spc="-1" strike="noStrike">
                <a:solidFill>
                  <a:srgbClr val="ffff00"/>
                </a:solidFill>
                <a:latin typeface="Times New Roman"/>
              </a:rPr>
              <a:t>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ge relationship with EU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velop contacts in Africa</a:t>
            </a:r>
            <a:r>
              <a:rPr b="0" lang="en-ZA" sz="2400" spc="-1" strike="noStrike">
                <a:solidFill>
                  <a:srgbClr val="ffff00"/>
                </a:solidFill>
                <a:latin typeface="Times New Roman"/>
              </a:rPr>
              <a:t>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frican Languages Tec</a:t>
            </a:r>
            <a:r>
              <a:rPr b="0" lang="en-ZA" sz="24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gy Program (ALTP</a:t>
            </a:r>
            <a:r>
              <a:rPr b="0" lang="en-ZA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- Nige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004 – 2007:  Implementation: Ph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ZA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Proposal still to be officially appro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 2002 - Denver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2120" y="533520"/>
            <a:ext cx="7695720" cy="5562000"/>
            <a:chOff x="762120" y="533520"/>
            <a:chExt cx="7695720" cy="5562000"/>
          </a:xfrm>
        </p:grpSpPr>
        <p:graphicFrame>
          <p:nvGraphicFramePr>
            <p:cNvPr id="45" name=""/>
            <p:cNvGraphicFramePr/>
            <p:nvPr/>
          </p:nvGraphicFramePr>
          <p:xfrm>
            <a:off x="762120" y="533520"/>
            <a:ext cx="7695720" cy="55620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2120" y="533520"/>
                      <a:ext cx="7695720" cy="55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" name=""/>
            <p:cNvGrpSpPr/>
            <p:nvPr/>
          </p:nvGrpSpPr>
          <p:grpSpPr>
            <a:xfrm>
              <a:off x="762120" y="626400"/>
              <a:ext cx="6721200" cy="4957200"/>
              <a:chOff x="762120" y="626400"/>
              <a:chExt cx="6721200" cy="4957200"/>
            </a:xfrm>
          </p:grpSpPr>
          <p:sp>
            <p:nvSpPr>
              <p:cNvPr id="48" name=""/>
              <p:cNvSpPr/>
              <p:nvPr/>
            </p:nvSpPr>
            <p:spPr>
              <a:xfrm>
                <a:off x="762120" y="626400"/>
                <a:ext cx="672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Official Languages of South Africa (Mother tongu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174320" y="5184720"/>
                <a:ext cx="589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Population: 37,9 mill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 2002 - Denver</a:t>
            </a: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00"/>
                </a:solidFill>
                <a:latin typeface="Times New Roman"/>
              </a:rPr>
              <a:t>Linguistic needs and real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11 official languages to be develo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communication in government and with citiz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multilingual education an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service delivery in public and private 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expanding IT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 2002 - Denver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great challenges for e-service delivery is meeting the challenge of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Universal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ognition of the right to access information regardless of disability, economic situation, geographic location or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anguage proficienc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 2002 - Denver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ance of National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olicy documents and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esight Project (1999) (DAC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lectronic Government: The digital future (2001) (DP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nguage Policy and Plan for SA (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CST / PanSALB report on HLT (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nisterial Advisory Panel on HLT (2002) (DACST)  (Report in September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 2002 - Denver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rrent practical impleme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Public Internet (information) Terminals (P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2305080" cy="99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971800" y="2590920"/>
            <a:ext cx="982800" cy="99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3581280"/>
            <a:ext cx="594360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nolingual and text based only</a:t>
            </a:r>
            <a:r>
              <a:rPr b="0" lang="en-ZA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4267080"/>
            <a:ext cx="815364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E-Government Gate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Multilingual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Industry applications: info and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29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75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 2002 - Denver</a:t>
            </a: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00"/>
                </a:solidFill>
                <a:latin typeface="Times New Roman"/>
              </a:rPr>
              <a:t>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African Speech Technology (AS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PanSALB (National Lexicographic Un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Multilingualism, Informatics &amp; Development Project (MIDP)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Telephone Interpreting Service for South Africa (TISSA)  - also for sign language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Development of Spell Chec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www.langtech.sun.ac.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 2002 - Denver</a:t>
            </a: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00"/>
                </a:solidFill>
                <a:latin typeface="Times New Roman"/>
              </a:rPr>
              <a:t>Role play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National Research Foundation (NRF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Council for Scientific and Industrial Research (CS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ALASA Special Interest Group for Language and Speech Technology Develop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South African Foundation for Language and Speech Technology Development (SAFL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earch Unit for Experimental Phonology (RUEP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Univers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www.langtech.sun.ac.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 2002 - Denver</a:t>
            </a: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Strategic Plan for development of HLT in South Afric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Joint Steering Committee of DACST and PANSAL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trategic plan approved by Minister of Arts, Culture, Science and Technolog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ZA" sz="3200" spc="-1" strike="noStrike">
                <a:solidFill>
                  <a:srgbClr val="ffff00"/>
                </a:solidFill>
                <a:latin typeface="Times New Roman"/>
              </a:rPr>
              <a:t>(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visory Panel for implementation of strategic plan has been appoin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ocosda 2002 - Denver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7T08:42:37Z</dcterms:created>
  <dc:creator>Administrator</dc:creator>
  <dc:description/>
  <dc:language>en-US</dc:language>
  <cp:lastModifiedBy>Liesbeth</cp:lastModifiedBy>
  <dcterms:modified xsi:type="dcterms:W3CDTF">2002-09-16T16:55:52Z</dcterms:modified>
  <cp:revision>48</cp:revision>
  <dc:subject/>
  <dc:title>Human Language Technologies in E-service delivery</dc:title>
</cp:coreProperties>
</file>