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DF8F-F4E5-4C8B-979A-CA4008A4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0DB-C605-4B14-8AEE-350A619A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0573-0965-4BBC-8AB1-0D423DB9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4DAE-32AC-408A-8730-EF448E2C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B13E-BA57-4843-BC5F-0C3E6FF4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5ED1-BA90-4593-861E-5A29DF39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DA33-7216-4AEE-8AB2-6ACF2785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8596-1F7F-469D-A58B-53424F0A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EA69-17FA-42E0-934D-DA6B9D82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EC7C-5780-48AE-85F9-833B2DDE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A07B-5B39-4674-889D-97451BA0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29F-6BA8-4ACC-BB8E-1C3853C9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15C5-3176-4AE1-AE74-5B7E1E1B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35B9-8829-466B-99A2-F0CAE1A6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0109-C51C-4642-9FFD-A6B1758E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76EC-63DA-4FBE-98D1-BBBEE261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55A1-F8FF-463C-9D9E-3848590D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800D-3560-4A5B-A2BB-4F9DA360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CB5A-97D7-425D-A0B5-0A0C138D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273-6C65-4CD7-8D87-52F42C8F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C00-EF43-4AF7-B6EB-C3053A04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AE59-6694-4B48-B6AB-FA0ED0EF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1BED-75D2-4526-BD99-3A58D0EE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2063-6FB9-4557-A186-8BD95751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08D4-34B4-4717-A6AA-DF365A12AFD8}" type="slidenum">
              <a:rPr b="0" lang="ja-JP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DDCA-8ADD-4D06-A7BC-56FBC8722651}" type="slidenum">
              <a:rPr b="0" lang="ja-JP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1760" y="530280"/>
            <a:ext cx="76784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Overview of Recent Activities of Corpus Development in East Asi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0720" y="2895480"/>
            <a:ext cx="7829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KUWABARA Hisao</a:t>
            </a:r>
            <a:r>
              <a:rPr b="0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   :</a:t>
            </a:r>
            <a:r>
              <a:rPr b="0" i="1" lang="ja-JP" sz="24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</a:t>
            </a:r>
            <a:r>
              <a:rPr b="0" i="1" lang="ja-JP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Teikyo Univ. of Science &amp; Technology, Jap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NAKAMURA Satoshi</a:t>
            </a:r>
            <a:r>
              <a:rPr b="0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 :</a:t>
            </a:r>
            <a:r>
              <a:rPr b="0" i="1" lang="ja-JP" sz="24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</a:t>
            </a:r>
            <a:r>
              <a:rPr b="0" i="1" lang="ja-JP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ATR Spoken Language Translation Res. Labs., Jap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ITAHASHI Shuichi</a:t>
            </a:r>
            <a:r>
              <a:rPr b="0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    :</a:t>
            </a:r>
            <a:r>
              <a:rPr b="0" i="1" lang="ja-JP" sz="24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</a:t>
            </a:r>
            <a:r>
              <a:rPr b="0" i="1" lang="ja-JP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University of Tsukuba, Jap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LEE Yong-Ju</a:t>
            </a:r>
            <a:r>
              <a:rPr b="0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              :</a:t>
            </a:r>
            <a:r>
              <a:rPr b="0" i="1" lang="ja-JP" sz="2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</a:t>
            </a:r>
            <a:r>
              <a:rPr b="0" i="1" lang="ja-JP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Wonkwang University, Kor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ZHENG Thomas-Fang </a:t>
            </a:r>
            <a:r>
              <a:rPr b="0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:</a:t>
            </a:r>
            <a:r>
              <a:rPr b="0" i="1" lang="ja-JP" sz="24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</a:t>
            </a:r>
            <a:r>
              <a:rPr b="0" i="1" lang="ja-JP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Tsinghua University, Ch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LI Aijun</a:t>
            </a:r>
            <a:r>
              <a:rPr b="0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</a:t>
            </a:r>
            <a:r>
              <a:rPr b="0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	</a:t>
            </a:r>
            <a:r>
              <a:rPr b="0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          : </a:t>
            </a:r>
            <a:r>
              <a:rPr b="0" i="1" lang="ja-JP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Chinese Academy of Social Sciences, Ch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WANG Renhua</a:t>
            </a:r>
            <a:r>
              <a:rPr b="0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             : </a:t>
            </a:r>
            <a:r>
              <a:rPr b="0" i="1" lang="ja-JP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University of Science &amp; Technology of China, Ch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DAWA Idomuso</a:t>
            </a:r>
            <a:r>
              <a:rPr b="0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            :</a:t>
            </a:r>
            <a:r>
              <a:rPr b="0" i="1" lang="ja-JP" sz="24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</a:t>
            </a:r>
            <a:r>
              <a:rPr b="0" i="1" lang="ja-JP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Waseda University, Japan</a:t>
            </a:r>
            <a:r>
              <a:rPr b="0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WANG Hsiao-Chuan</a:t>
            </a:r>
            <a:r>
              <a:rPr b="0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    :</a:t>
            </a:r>
            <a:r>
              <a:rPr b="0" i="1" lang="ja-JP" sz="24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</a:t>
            </a:r>
            <a:r>
              <a:rPr b="0" i="1" lang="ja-JP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National Tsing Hua University, Taiwan</a:t>
            </a:r>
            <a:r>
              <a:rPr b="0" i="1" lang="ja-JP" sz="24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618480"/>
            <a:ext cx="6724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3366"/>
                </a:solidFill>
                <a:latin typeface="Arial"/>
                <a:ea typeface="Arial"/>
              </a:rPr>
              <a:t>Activities of SITEC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Corpus for </a:t>
            </a:r>
            <a:r>
              <a:rPr b="0" lang="ja-JP" sz="2800" spc="-1" strike="noStrike">
                <a:solidFill>
                  <a:srgbClr val="0000cc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ead </a:t>
            </a:r>
            <a:r>
              <a:rPr b="0" lang="ja-JP" sz="2800" spc="-1" strike="noStrike">
                <a:solidFill>
                  <a:srgbClr val="0000cc"/>
                </a:solidFill>
                <a:latin typeface="Arial"/>
                <a:ea typeface="Arial"/>
              </a:rPr>
              <a:t>S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ent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Speech of pre-school  and elementary school children (</a:t>
            </a:r>
            <a:r>
              <a:rPr b="0" lang="fr-CA" sz="2400" spc="-1" strike="noStrike">
                <a:solidFill>
                  <a:srgbClr val="0000cc"/>
                </a:solidFill>
                <a:latin typeface="Arial"/>
                <a:ea typeface="Arial"/>
              </a:rPr>
              <a:t>500 children)</a:t>
            </a:r>
            <a:r>
              <a:rPr b="0" lang="fr-CA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cc"/>
                </a:solidFill>
                <a:latin typeface="Arial"/>
                <a:ea typeface="Arial"/>
              </a:rPr>
              <a:t>- Each speaker reads 100 words</a:t>
            </a:r>
            <a:r>
              <a:rPr b="0" lang="fr-CA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1,233 </a:t>
            </a:r>
            <a:r>
              <a:rPr b="0" lang="ja-JP" sz="2400" spc="-1" strike="noStrike">
                <a:solidFill>
                  <a:srgbClr val="0000cc"/>
                </a:solidFill>
                <a:latin typeface="Arial"/>
                <a:ea typeface="Arial"/>
              </a:rPr>
              <a:t>isolate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0000"/>
                </a:solidFill>
                <a:latin typeface="Arial"/>
                <a:ea typeface="Arial"/>
              </a:rPr>
              <a:t>41 digits and command wo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0000"/>
                </a:solidFill>
                <a:latin typeface="Arial"/>
                <a:ea typeface="Arial"/>
              </a:rPr>
              <a:t>340 four-digit nu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0000"/>
                </a:solidFill>
                <a:latin typeface="Arial"/>
                <a:ea typeface="Arial"/>
              </a:rPr>
              <a:t>452 phonetically balanced wo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0000"/>
                </a:solidFill>
                <a:latin typeface="Arial"/>
                <a:ea typeface="Arial"/>
              </a:rPr>
              <a:t>400 control command wo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0000" y="618480"/>
            <a:ext cx="7732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3366"/>
                </a:solidFill>
                <a:latin typeface="Arial"/>
                <a:ea typeface="Arial"/>
              </a:rPr>
              <a:t>Activities of SITEC (continued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Corpus for </a:t>
            </a:r>
            <a:r>
              <a:rPr b="0" lang="ja-JP" sz="2800" spc="-1" strike="noStrike">
                <a:solidFill>
                  <a:srgbClr val="0000cc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ead </a:t>
            </a:r>
            <a:r>
              <a:rPr b="0" lang="ja-JP" sz="2800" spc="-1" strike="noStrike">
                <a:solidFill>
                  <a:srgbClr val="0000cc"/>
                </a:solidFill>
                <a:latin typeface="Arial"/>
                <a:ea typeface="Arial"/>
              </a:rPr>
              <a:t>S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ent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20,833 sentences consisting of 10,000 words of high frequency from a text corpus of 43 million word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400 speake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cc"/>
                </a:solidFill>
                <a:latin typeface="Arial"/>
                <a:ea typeface="Arial"/>
              </a:rPr>
              <a:t>- Each speaker reads 100 w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Structured for OOV 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0000"/>
                </a:solidFill>
                <a:latin typeface="Arial"/>
                <a:ea typeface="Arial"/>
              </a:rPr>
              <a:t>5K set: sentences of high frequency 5,000 wo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0000"/>
                </a:solidFill>
                <a:latin typeface="Arial"/>
                <a:ea typeface="Arial"/>
              </a:rPr>
              <a:t>8K set: sentences of high frequency 8,000 words, excluding the sentences in the 5K s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0000"/>
                </a:solidFill>
                <a:latin typeface="Arial"/>
                <a:ea typeface="Arial"/>
              </a:rPr>
              <a:t>10K set: remainder of the sentences excluding the sentences in the 5K and 8K s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0920" y="547200"/>
            <a:ext cx="7848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3366"/>
                </a:solidFill>
                <a:latin typeface="Arial"/>
                <a:ea typeface="Arial"/>
              </a:rPr>
              <a:t>Activities of SITEC (continued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cc"/>
                </a:solidFill>
                <a:latin typeface="Arial"/>
                <a:ea typeface="Arial"/>
              </a:rPr>
              <a:t>Clean Speech Corpus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Based on 4,178 phonetically rich wo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500 speakers sampled according to sex, age, and region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Labe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cc"/>
                </a:solidFill>
                <a:latin typeface="Arial"/>
                <a:ea typeface="Arial"/>
              </a:rPr>
              <a:t>Corpus for Prosody Research and Synthesis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cc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4,360 phonetically rich sentences extracted by the greedy algorith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cc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From sentences of 10 million phonological words from a text corpus of 43 million phonological word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cc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Domains are consider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cc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One male professional speaker and one female professional speake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cc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Phonological and K-ToBI prosodic label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547200"/>
            <a:ext cx="770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3366"/>
                </a:solidFill>
                <a:latin typeface="Arial"/>
                <a:ea typeface="Arial"/>
              </a:rPr>
              <a:t>Activities of SITEC (continued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cc"/>
                </a:solidFill>
                <a:latin typeface="Arial"/>
                <a:ea typeface="Arial"/>
              </a:rPr>
              <a:t>Prototype for Noise and Speech Database in the Car Noise Environments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Data in various driving environments collected through 8 channels as a proto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cc"/>
                </a:solidFill>
                <a:latin typeface="Arial"/>
                <a:ea typeface="Arial"/>
              </a:rPr>
              <a:t>Sharing of Existing Corpora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Corpus of telephone speech of 2,000 speak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Corpus of 452 phonetically balanced words by 70 speakers for 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Corpus of numbers by 500 speak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360" y="547200"/>
            <a:ext cx="7632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3366"/>
                </a:solidFill>
                <a:latin typeface="Arial"/>
                <a:ea typeface="Arial"/>
              </a:rPr>
              <a:t>Activities of SITEC (continued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0920" y="2060640"/>
            <a:ext cx="8110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Training and </a:t>
            </a:r>
            <a:r>
              <a:rPr b="0" lang="ja-JP" sz="2400" spc="-1" strike="noStrike">
                <a:solidFill>
                  <a:srgbClr val="0000cc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thers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Academy for practitioners and research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0000"/>
                </a:solidFill>
                <a:latin typeface="Arial"/>
                <a:ea typeface="Arial"/>
              </a:rPr>
              <a:t>Fundamentals of phonetics, conventions and practicum for labeling, theories and practicum for speech recognition, signal processing for speech, design and application of speech corpora, etc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0000"/>
                </a:solidFill>
                <a:latin typeface="Arial"/>
                <a:ea typeface="Arial"/>
              </a:rPr>
              <a:t>The contents are expanding and will  be offered on-line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An expert group for guidelines for objective assessment of speech recognition and synthesis systems and selection of elementary technology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0000"/>
                </a:solidFill>
                <a:latin typeface="Arial"/>
                <a:ea typeface="Arial"/>
              </a:rPr>
              <a:t>In cooperation with a forum for standardization of speech information technology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The current states and difficulties in domestic speech information industry are being surveyed and analyzed.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0000"/>
                </a:solidFill>
                <a:latin typeface="Arial"/>
                <a:ea typeface="Arial"/>
              </a:rPr>
              <a:t>In cooperation with Korean Speech Information Technology Industry Associati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55640" y="97848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6699"/>
                </a:solidFill>
                <a:latin typeface="Arial"/>
                <a:ea typeface="宋体"/>
              </a:rPr>
              <a:t>COCOSDA Activties </a:t>
            </a:r>
            <a:br>
              <a:rPr sz="4400"/>
            </a:br>
            <a:r>
              <a:rPr b="0" lang="fr-CA" sz="4400" spc="-1" strike="noStrike">
                <a:solidFill>
                  <a:srgbClr val="336699"/>
                </a:solidFill>
                <a:latin typeface="Arial"/>
                <a:ea typeface="宋体"/>
              </a:rPr>
              <a:t>in Mainland Chin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826920" y="3499920"/>
            <a:ext cx="705816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cc"/>
                </a:solidFill>
                <a:latin typeface="Arial"/>
              </a:rPr>
              <a:t>ZHENG Thomas-Fang</a:t>
            </a:r>
            <a:r>
              <a:rPr b="0" lang="ja-JP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cc"/>
                </a:solidFill>
                <a:latin typeface="Arial"/>
              </a:rPr>
              <a:t>Tsinghua University, China</a:t>
            </a:r>
            <a:r>
              <a:rPr b="0" lang="ja-JP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0920" y="69012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peech I/O Standardization Activity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cc"/>
                </a:solidFill>
                <a:latin typeface="Arial"/>
              </a:rPr>
              <a:t>Standardization Me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cc"/>
                </a:solidFill>
                <a:latin typeface="Arial"/>
              </a:rPr>
              <a:t>The National 863 HiTech Projects Expert Group and Non-keyboard Input Subcommittee of the National Information Committee decided to start the Chinese speech standardization process in 200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1400" spc="-1" strike="noStrike">
                <a:solidFill>
                  <a:srgbClr val="f00000"/>
                </a:solidFill>
                <a:latin typeface="Arial"/>
              </a:rPr>
              <a:t>1   Leader Unit of Synthesis Group : </a:t>
            </a:r>
            <a:r>
              <a:rPr b="0" lang="en-US" sz="1400" spc="-1" strike="noStrike">
                <a:solidFill>
                  <a:srgbClr val="f00000"/>
                </a:solidFill>
                <a:latin typeface="Arial"/>
                <a:ea typeface="宋体"/>
              </a:rPr>
              <a:t>USTC iFly Co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00000"/>
                </a:solidFill>
                <a:latin typeface="Arial"/>
                <a:ea typeface="宋体"/>
              </a:rPr>
              <a:t>	</a:t>
            </a:r>
            <a:r>
              <a:rPr b="0" lang="ja-JP" sz="1400" spc="-1" strike="noStrike">
                <a:solidFill>
                  <a:srgbClr val="f00000"/>
                </a:solidFill>
                <a:latin typeface="Arial"/>
                <a:ea typeface="宋体"/>
              </a:rPr>
              <a:t>	</a:t>
            </a:r>
            <a:r>
              <a:rPr b="0" lang="ja-JP" sz="1400" spc="-1" strike="noStrike">
                <a:solidFill>
                  <a:srgbClr val="f00000"/>
                </a:solidFill>
                <a:latin typeface="Arial"/>
                <a:ea typeface="宋体"/>
              </a:rPr>
              <a:t>2   Leader Unit of Recognition Group : Automation Institute, C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00000"/>
                </a:solidFill>
                <a:latin typeface="Arial"/>
                <a:ea typeface="宋体"/>
              </a:rPr>
              <a:t>	</a:t>
            </a:r>
            <a:r>
              <a:rPr b="0" lang="ja-JP" sz="1400" spc="-1" strike="noStrike">
                <a:solidFill>
                  <a:srgbClr val="f00000"/>
                </a:solidFill>
                <a:latin typeface="Arial"/>
                <a:ea typeface="宋体"/>
              </a:rPr>
              <a:t>	</a:t>
            </a:r>
            <a:r>
              <a:rPr b="0" lang="ja-JP" sz="1400" spc="-1" strike="noStrike">
                <a:solidFill>
                  <a:srgbClr val="f00000"/>
                </a:solidFill>
                <a:latin typeface="Arial"/>
                <a:ea typeface="宋体"/>
              </a:rPr>
              <a:t>3   Focusing on : System classification, assessment, data exchange, appl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cc"/>
                </a:solidFill>
                <a:latin typeface="Arial"/>
              </a:rPr>
              <a:t>Standardization Proje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cc"/>
                </a:solidFill>
                <a:latin typeface="Arial"/>
              </a:rPr>
              <a:t>Speech recognition/synthesis technology standards will be included in ’02 projects of Important Technology Standard Research of the Ministry of Science &amp; Technolog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cc"/>
                </a:solidFill>
                <a:latin typeface="Arial"/>
              </a:rPr>
              <a:t>Standardization and Corpus Proje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cc"/>
                </a:solidFill>
                <a:latin typeface="Arial"/>
              </a:rPr>
              <a:t>The key project of the National 10</a:t>
            </a:r>
            <a:r>
              <a:rPr b="0" lang="ja-JP" sz="1800" spc="-1" strike="noStrike" baseline="30000">
                <a:solidFill>
                  <a:srgbClr val="0000cc"/>
                </a:solidFill>
                <a:latin typeface="Arial"/>
              </a:rPr>
              <a:t>th</a:t>
            </a:r>
            <a:r>
              <a:rPr b="0" lang="ja-JP" sz="1800" spc="-1" strike="noStrike">
                <a:solidFill>
                  <a:srgbClr val="0000cc"/>
                </a:solidFill>
                <a:latin typeface="Arial"/>
              </a:rPr>
              <a:t> Five-Year pl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cc"/>
                </a:solidFill>
                <a:latin typeface="Arial"/>
                <a:ea typeface="宋体"/>
              </a:rPr>
              <a:t>	</a:t>
            </a:r>
            <a:r>
              <a:rPr b="0" lang="ja-JP" sz="1400" spc="-1" strike="noStrike">
                <a:solidFill>
                  <a:srgbClr val="0000cc"/>
                </a:solidFill>
                <a:latin typeface="Arial"/>
                <a:ea typeface="宋体"/>
              </a:rPr>
              <a:t>	</a:t>
            </a:r>
            <a:r>
              <a:rPr b="0" lang="ja-JP" sz="1400" spc="-1" strike="noStrike">
                <a:solidFill>
                  <a:srgbClr val="f00000"/>
                </a:solidFill>
                <a:latin typeface="Arial"/>
                <a:ea typeface="宋体"/>
              </a:rPr>
              <a:t>To e</a:t>
            </a:r>
            <a:r>
              <a:rPr b="0" lang="en-US" sz="1400" spc="-1" strike="noStrike">
                <a:solidFill>
                  <a:srgbClr val="f00000"/>
                </a:solidFill>
                <a:latin typeface="Arial"/>
                <a:ea typeface="宋体"/>
              </a:rPr>
              <a:t>stablish</a:t>
            </a:r>
            <a:r>
              <a:rPr b="0" lang="ja-JP" sz="1400" spc="-1" strike="noStrike">
                <a:solidFill>
                  <a:srgbClr val="f00000"/>
                </a:solidFill>
                <a:latin typeface="Arial"/>
                <a:ea typeface="宋体"/>
              </a:rPr>
              <a:t>ment of</a:t>
            </a:r>
            <a:r>
              <a:rPr b="0" lang="en-US" sz="1400" spc="-1" strike="noStrike">
                <a:solidFill>
                  <a:srgbClr val="f00000"/>
                </a:solidFill>
                <a:latin typeface="Arial"/>
                <a:ea typeface="宋体"/>
              </a:rPr>
              <a:t> such multi-style corpora as read, spontaneous, discourse, and dialogue </a:t>
            </a:r>
            <a:r>
              <a:rPr b="0" lang="ja-JP" sz="1400" spc="-1" strike="noStrike">
                <a:solidFill>
                  <a:srgbClr val="f00000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f00000"/>
                </a:solidFill>
                <a:latin typeface="Arial"/>
                <a:ea typeface="宋体"/>
              </a:rPr>
              <a:t>corpora for use in analysis and recognition</a:t>
            </a:r>
            <a:r>
              <a:rPr b="0" lang="ja-JP" sz="1400" spc="-1" strike="noStrike">
                <a:solidFill>
                  <a:srgbClr val="f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00000"/>
                </a:solidFill>
                <a:latin typeface="Arial"/>
                <a:ea typeface="宋体"/>
              </a:rPr>
              <a:t>	</a:t>
            </a:r>
            <a:r>
              <a:rPr b="0" lang="ja-JP" sz="1400" spc="-1" strike="noStrike">
                <a:solidFill>
                  <a:srgbClr val="f00000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f00000"/>
                </a:solidFill>
                <a:latin typeface="Arial"/>
                <a:ea typeface="宋体"/>
              </a:rPr>
              <a:t>To constitute Chinese Corpus Specifications, </a:t>
            </a:r>
            <a:r>
              <a:rPr b="0" lang="en-US" sz="1400" spc="-1" strike="noStrike">
                <a:solidFill>
                  <a:srgbClr val="f00000"/>
                </a:solidFill>
                <a:latin typeface="Arial"/>
              </a:rPr>
              <a:t>Fundamental </a:t>
            </a:r>
            <a:r>
              <a:rPr b="0" lang="en-US" sz="1400" spc="-1" strike="noStrike">
                <a:solidFill>
                  <a:srgbClr val="f00000"/>
                </a:solidFill>
                <a:latin typeface="Arial"/>
                <a:ea typeface="宋体"/>
              </a:rPr>
              <a:t>Speech Technology </a:t>
            </a:r>
            <a:r>
              <a:rPr b="0" lang="ja-JP" sz="1400" spc="-1" strike="noStrike">
                <a:solidFill>
                  <a:srgbClr val="f00000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f00000"/>
                </a:solidFill>
                <a:latin typeface="Arial"/>
                <a:ea typeface="宋体"/>
              </a:rPr>
              <a:t>Specifications, and Distributed Speech Computing (DSC) application standards</a:t>
            </a:r>
            <a:r>
              <a:rPr b="0" lang="ja-JP" sz="1400" spc="-1" strike="noStrike">
                <a:solidFill>
                  <a:srgbClr val="f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10920" y="331560"/>
            <a:ext cx="79484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hinese Spontaneous Telephone Speech Corpus (CSTSC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835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rpus Col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- Flight inquiry and reservation dom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- Human-human spontaneous conversations on the top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- 6GB (200hrs) raw data, 1.5GB topic-related pure speech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宋体"/>
              </a:rPr>
              <a:t>- Roughly 16,000 conversations with 12,000 speak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rpus Tran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- Binary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- Information for speaker, sentence segmentation, Pinyin string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llable time-boundary, et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258480"/>
            <a:ext cx="8064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hinese Annotated Discourse and Conversation Corpus (CADCC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55280" y="22050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Arial"/>
              </a:rPr>
              <a:t>For Prosody and Segmental Variability Researc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Arial"/>
              </a:rPr>
              <a:t>By Chinese Academy of Social Sci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Arial"/>
              </a:rPr>
              <a:t>Corpus Col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cc"/>
                </a:solidFill>
                <a:latin typeface="Arial"/>
              </a:rPr>
              <a:t>- 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20 hours dialogues of 22 speakers and 3 hours teleph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conversations of 200 speak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- All speech data are orthographically transcribed with 3hrs spee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prosodic and segmental annotations by C-ToBI and SAPAM-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- Feasibility study using image signal to add para- / non-linguistic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tiers on prosodic anno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331560"/>
            <a:ext cx="73720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poken Chinese Corpus of Dialects (SCCD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051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Arial"/>
              </a:rPr>
              <a:t>For Speech Recognition and Acoustic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Arial"/>
              </a:rPr>
              <a:t>By Chinese Academy of Social Sci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Arial"/>
              </a:rPr>
              <a:t>Corpus Col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(1) Read Spee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- Covers 10 major dialect regions, 550 common sentences, 1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sentences for each dialec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- 2000 speakers of 10 dialect regions have been recorded so f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(2) Spontaneous Spee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-  Contains 200 scenarios and 778 top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- 30 hrs speech data of Beijin accent have been collected so f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- Chongqing and Xi’an dialects are being collected and annot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058240" cy="22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Verdana"/>
              </a:rPr>
              <a:t>Overview of Recent Activities of Corpus Development in East Asia</a:t>
            </a:r>
            <a:endParaRPr b="0" lang="en-US" sz="4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KUWABARA Hisao</a:t>
            </a:r>
            <a:r>
              <a:rPr b="0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   </a:t>
            </a:r>
            <a:r>
              <a:rPr b="0" i="1" lang="ja-JP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:</a:t>
            </a:r>
            <a:r>
              <a:rPr b="0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</a:t>
            </a:r>
            <a:r>
              <a:rPr b="0" i="1" lang="ja-JP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Teikyo Univ. of Science &amp; Technology, Jap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NAKAMURA Satoshi</a:t>
            </a:r>
            <a:r>
              <a:rPr b="0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 </a:t>
            </a:r>
            <a:r>
              <a:rPr b="0" i="1" lang="ja-JP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:</a:t>
            </a:r>
            <a:r>
              <a:rPr b="0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</a:t>
            </a:r>
            <a:r>
              <a:rPr b="0" i="1" lang="ja-JP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ATR Spoken Language Translation Res. Labs., Jap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ITAHASHI Shuichi</a:t>
            </a:r>
            <a:r>
              <a:rPr b="0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     </a:t>
            </a:r>
            <a:r>
              <a:rPr b="0" i="1" lang="ja-JP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:</a:t>
            </a:r>
            <a:r>
              <a:rPr b="0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</a:t>
            </a:r>
            <a:r>
              <a:rPr b="0" i="1" lang="ja-JP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University of Tsukuba, Jap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LEE Yong-Ju</a:t>
            </a:r>
            <a:r>
              <a:rPr b="0" i="1" lang="ja-JP" sz="24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            </a:t>
            </a:r>
            <a:r>
              <a:rPr b="0" i="1" lang="ja-JP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:</a:t>
            </a:r>
            <a:r>
              <a:rPr b="0" i="1" lang="ja-JP" sz="24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</a:t>
            </a:r>
            <a:r>
              <a:rPr b="0" i="1" lang="ja-JP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Wonkwang University, Korea</a:t>
            </a:r>
            <a:r>
              <a:rPr b="0" i="1" lang="ja-JP" sz="24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ZHENG Thomas-Fang</a:t>
            </a:r>
            <a:r>
              <a:rPr b="0" i="1" lang="ja-JP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:</a:t>
            </a:r>
            <a:r>
              <a:rPr b="0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</a:t>
            </a:r>
            <a:r>
              <a:rPr b="0" i="1" lang="ja-JP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Tsinghua University, China</a:t>
            </a:r>
            <a:r>
              <a:rPr b="0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DAWA Idomuso</a:t>
            </a:r>
            <a:r>
              <a:rPr b="0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         </a:t>
            </a:r>
            <a:r>
              <a:rPr b="0" i="1" lang="ja-JP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:</a:t>
            </a:r>
            <a:r>
              <a:rPr b="0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</a:t>
            </a:r>
            <a:r>
              <a:rPr b="0" i="1" lang="ja-JP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Waseda University, Japa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WANG Hsiao-Chuan</a:t>
            </a:r>
            <a:r>
              <a:rPr b="0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  </a:t>
            </a:r>
            <a:r>
              <a:rPr b="0" i="1" lang="ja-JP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:</a:t>
            </a:r>
            <a:r>
              <a:rPr b="0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</a:t>
            </a:r>
            <a:r>
              <a:rPr b="0" i="1" lang="ja-JP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National Tsing Hua University, Taiwan</a:t>
            </a:r>
            <a:r>
              <a:rPr b="0" i="1" lang="ja-JP" sz="20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258120"/>
            <a:ext cx="758808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poken Chinese of Situated Discourse (SCSD)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227628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By Chinese Academy of Social Sci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tage of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- To capture the real-life dynamics of actual discour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- Methods of collection are to be made on the bases of sociologic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actors, discourse parameters and practical feasib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833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llecting and Building Mongolian Speech Database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826920" y="3284280"/>
            <a:ext cx="7274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cc"/>
                </a:solidFill>
                <a:latin typeface="Arial"/>
              </a:rPr>
              <a:t>DAWA Idomuso</a:t>
            </a:r>
            <a:r>
              <a:rPr b="0" lang="ja-JP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cc"/>
                </a:solidFill>
                <a:latin typeface="Arial"/>
              </a:rPr>
              <a:t>Waseda University, Tokyo,Japan</a:t>
            </a:r>
            <a:r>
              <a:rPr b="0" lang="ja-JP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0920" y="547200"/>
            <a:ext cx="7561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Mongolian Dialectal Group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8353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Arial"/>
              </a:rPr>
              <a:t>Spoken in Parts of China and Russia and in Neighboring Countries by 7.5 M Peo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Arial"/>
              </a:rPr>
              <a:t>Three Major Dialec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f00000"/>
                </a:solidFill>
                <a:latin typeface="Arial"/>
              </a:rPr>
              <a:t>(1)  Kharha : </a:t>
            </a:r>
            <a:r>
              <a:rPr b="0" lang="ja-JP" sz="2400" spc="-1" strike="noStrike">
                <a:solidFill>
                  <a:srgbClr val="f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f00000"/>
                </a:solidFill>
                <a:latin typeface="Arial"/>
              </a:rPr>
              <a:t>Mongol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f00000"/>
                </a:solidFill>
                <a:latin typeface="Arial"/>
              </a:rPr>
              <a:t>(2)  Chahar  :</a:t>
            </a:r>
            <a:r>
              <a:rPr b="0" lang="ja-JP" sz="2400" spc="-1" strike="noStrike">
                <a:solidFill>
                  <a:srgbClr val="f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f00000"/>
                </a:solidFill>
                <a:latin typeface="Arial"/>
              </a:rPr>
              <a:t>Inner Mongolia in Ch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f00000"/>
                </a:solidFill>
                <a:latin typeface="Arial"/>
              </a:rPr>
              <a:t>(3)  Oirat    :</a:t>
            </a:r>
            <a:r>
              <a:rPr b="0" lang="ja-JP" sz="2400" spc="-1" strike="noStrike">
                <a:solidFill>
                  <a:srgbClr val="f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f00000"/>
                </a:solidFill>
                <a:latin typeface="Arial"/>
              </a:rPr>
              <a:t>Kalmyk, Russia, Xin Jiang in Ch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Arial"/>
              </a:rPr>
              <a:t>Linguistic and Phonetic Studies Nee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607320"/>
            <a:ext cx="751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utline of the Databas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6920" y="2276280"/>
            <a:ext cx="7475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Multi-Dialectal Speech 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Natural Language Proces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Multi-Dialectal Speech Trans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365040"/>
            <a:ext cx="84963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Arial"/>
              </a:rPr>
              <a:t>Mongolian Dialectal Speech Corpus in Waseda University, Japa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630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Arial"/>
              </a:rPr>
              <a:t>Collected at Waseda Univ. from 1995 to 200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Arial"/>
              </a:rPr>
              <a:t>Area of Mongoli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(1) 2.5 hrs of read sentence speech by 10 speak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(2) 3.5 hrs of 300 phonetically balanced words by 20 speak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(3) TV/Radio news by 4 announcers (total 40min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(4) Spontaneous speech by 4 Kharha dialect speakers (20min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4360" y="331560"/>
            <a:ext cx="7632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Recent State in Building and Using Speech Corpu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489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At the Institute of Mongolian, Inner Mongolian Univ., Chi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Area of Inner Mongolian, Chin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(1) 3.5 hrs of read sentences by 20 speak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(2) 3.5 hrs of phonetically-balanced 300 words by 20 speak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(3) 1 hr of TV/Radio news by 6 announc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(4) Spontaneous speech 6 Chahar dialect speak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cc"/>
                </a:solidFill>
                <a:latin typeface="Arial"/>
              </a:rPr>
              <a:t>Area of Xin Jiang, Ch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(1) 3 hrs of read sentences by 12 speak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(2) 3.5 hrs of phonetically-balanced 300 words by 20 speak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(3) 1.5 hrs of TV/Radio news by 6 announc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(4) 1 hr of spontaneous speech by 8 Oirat dialect speak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cc"/>
                </a:solidFill>
                <a:latin typeface="Arial"/>
              </a:rPr>
              <a:t>Area of Kalmykia, Russ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(1) 1 hr of read sentences by 20 speak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(2) 0.5 hrs of TV/Radio news by 2 announc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(3) 20 min. of spontaneous speech by 4 Khalmyk dialect speak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606240"/>
            <a:ext cx="7678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  <a:ea typeface="Arial Unicode MS"/>
              </a:rPr>
              <a:t>Research and Data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  <a:ea typeface="Arial Unicode MS"/>
              </a:rPr>
              <a:t>Collection Projects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  <a:ea typeface="Arial Unicode MS"/>
              </a:rPr>
              <a:t>in Taiwa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cc"/>
                </a:solidFill>
                <a:latin typeface="Arial"/>
                <a:ea typeface="ＭＳ 明朝"/>
              </a:rPr>
              <a:t>WANG Hsiao-Chuan</a:t>
            </a:r>
            <a:r>
              <a:rPr b="0" lang="ja-JP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cc"/>
                </a:solidFill>
                <a:latin typeface="Arial"/>
                <a:ea typeface="ＭＳ 明朝"/>
              </a:rPr>
              <a:t>National Tsing Hua University, Hsinchu, Taiwan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303120"/>
            <a:ext cx="8001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nformation Retrieval and Dialog System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Arial"/>
              </a:rPr>
              <a:t>1  Dialog-Based Mobile Information Querying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新細明體"/>
              </a:rPr>
              <a:t>2  Intelligent Dialogue System for ITS Information 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新細明體"/>
              </a:rPr>
              <a:t>3  Information Retrieval via Speech under Wireless Communication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新細明體"/>
              </a:rPr>
              <a:t>4  Internet Voice Por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30168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pplication to the Assistance of the Handicapped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65000"/>
              </a:lnSpc>
              <a:spcBef>
                <a:spcPts val="1500"/>
              </a:spcBef>
              <a:buClr>
                <a:srgbClr val="0000cc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新細明體"/>
              </a:rPr>
              <a:t>Speech Recognition Techniques for the Speec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新細明體"/>
              </a:rPr>
              <a:t>      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新細明體"/>
              </a:rPr>
              <a:t>Learning of Hearing Impai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65000"/>
              </a:lnSpc>
              <a:spcBef>
                <a:spcPts val="1500"/>
              </a:spcBef>
              <a:buClr>
                <a:srgbClr val="0000cc"/>
              </a:buClr>
              <a:buSzPct val="75000"/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新細明體"/>
              </a:rPr>
              <a:t>Evaluation of Auditory Ability and Rehabilit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新細明體"/>
              </a:rPr>
              <a:t>      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新細明體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83280"/>
            <a:ext cx="7586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peech Data Collec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新細明體"/>
              </a:rPr>
              <a:t>Mandarin Speech Databas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新細明體"/>
              </a:rPr>
              <a:t> – Academia Sin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新細明體"/>
              </a:rPr>
              <a:t>In-Car Speech Databas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新細明體"/>
              </a:rPr>
              <a:t> – CCL, ITR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新細明體"/>
              </a:rPr>
              <a:t>Spontaneous In-Car Voice Database (SIVD)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新細明體"/>
              </a:rPr>
              <a:t> – National Cheng Kung Univer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新細明體"/>
              </a:rPr>
              <a:t>Radio Broadcasting New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新細明體"/>
              </a:rPr>
              <a:t> – Academia Sin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新細明體"/>
              </a:rPr>
              <a:t>Trilingual Speech Databas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新細明體"/>
              </a:rPr>
              <a:t> – Chang Gung Univer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-2160"/>
            <a:ext cx="8163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ＭＳ Ｐゴシック"/>
              </a:rPr>
              <a:t>Features of East Asian Languag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cc"/>
                </a:solidFill>
                <a:latin typeface="ＭＳ Ｐゴシック"/>
              </a:rPr>
              <a:t>1  Variety </a:t>
            </a:r>
            <a:r>
              <a:rPr b="0" lang="ja-JP" sz="3200" spc="-1" strike="noStrike">
                <a:solidFill>
                  <a:srgbClr val="0000cc"/>
                </a:solidFill>
                <a:latin typeface="ＭＳ Ｐゴシック"/>
              </a:rPr>
              <a:t>　←　</a:t>
            </a:r>
            <a:r>
              <a:rPr b="0" lang="ja-JP" sz="3200" spc="-1" strike="noStrike">
                <a:solidFill>
                  <a:srgbClr val="0000cc"/>
                </a:solidFill>
                <a:latin typeface="ＭＳ Ｐゴシック"/>
              </a:rPr>
              <a:t>Different Language Famil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cc"/>
                </a:solidFill>
                <a:latin typeface="ＭＳ Ｐゴシック"/>
              </a:rPr>
              <a:t>2  Different Orthographic Syst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cc"/>
                </a:solidFill>
                <a:latin typeface="ＭＳ Ｐゴシック"/>
              </a:rPr>
              <a:t>3  Various Systems of Romaniz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cc"/>
                </a:solidFill>
                <a:latin typeface="ＭＳ Ｐゴシック"/>
              </a:rPr>
              <a:t>　　　　　　　　　　　　　</a:t>
            </a:r>
            <a:r>
              <a:rPr b="1" lang="ja-JP" sz="3200" spc="-1" strike="noStrike">
                <a:solidFill>
                  <a:srgbClr val="0000cc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cc"/>
                </a:solidFill>
                <a:latin typeface="ＭＳ Ｐゴシック"/>
              </a:rPr>
              <a:t>Necessity of Different Processing from European Langu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7320"/>
            <a:ext cx="6934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ontent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773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ＭＳ Ｐゴシック"/>
              </a:rPr>
              <a:t>1  </a:t>
            </a:r>
            <a:r>
              <a:rPr b="0" lang="en-US" sz="2800" spc="-1" strike="noStrike">
                <a:solidFill>
                  <a:srgbClr val="0000cc"/>
                </a:solidFill>
                <a:latin typeface="ＭＳ Ｐゴシック"/>
              </a:rPr>
              <a:t>Japanese</a:t>
            </a:r>
            <a:r>
              <a:rPr b="0" lang="en-US" sz="2400" spc="-1" strike="noStrike">
                <a:solidFill>
                  <a:srgbClr val="0000cc"/>
                </a:solidFill>
                <a:latin typeface="ＭＳ Ｐゴシック"/>
              </a:rPr>
              <a:t> : Utilization of Speech Corpora &amp; Research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ＭＳ Ｐゴシック"/>
              </a:rPr>
              <a:t>2  </a:t>
            </a:r>
            <a:r>
              <a:rPr b="0" lang="en-US" sz="2800" spc="-1" strike="noStrike">
                <a:solidFill>
                  <a:srgbClr val="0000cc"/>
                </a:solidFill>
                <a:latin typeface="ＭＳ Ｐゴシック"/>
              </a:rPr>
              <a:t>Korean</a:t>
            </a:r>
            <a:r>
              <a:rPr b="0" lang="en-US" sz="2400" spc="-1" strike="noStrike">
                <a:solidFill>
                  <a:srgbClr val="0000cc"/>
                </a:solidFill>
                <a:latin typeface="ＭＳ Ｐゴシック"/>
              </a:rPr>
              <a:t> : Speech Technology Activities &amp; Corpus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ＭＳ Ｐゴシック"/>
              </a:rPr>
              <a:t>3  </a:t>
            </a:r>
            <a:r>
              <a:rPr b="0" lang="en-US" sz="2800" spc="-1" strike="noStrike">
                <a:solidFill>
                  <a:srgbClr val="0000cc"/>
                </a:solidFill>
                <a:latin typeface="ＭＳ Ｐゴシック"/>
              </a:rPr>
              <a:t>Chinese</a:t>
            </a:r>
            <a:r>
              <a:rPr b="0" lang="en-US" sz="2400" spc="-1" strike="noStrike">
                <a:solidFill>
                  <a:srgbClr val="0000cc"/>
                </a:solidFill>
                <a:latin typeface="ＭＳ Ｐゴシック"/>
              </a:rPr>
              <a:t> : COCOSDA Activities &amp; Corpus Col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ＭＳ Ｐゴシック"/>
              </a:rPr>
              <a:t>4  </a:t>
            </a:r>
            <a:r>
              <a:rPr b="0" lang="en-US" sz="2800" spc="-1" strike="noStrike">
                <a:solidFill>
                  <a:srgbClr val="0000cc"/>
                </a:solidFill>
                <a:latin typeface="ＭＳ Ｐゴシック"/>
              </a:rPr>
              <a:t>Mongolian</a:t>
            </a:r>
            <a:r>
              <a:rPr b="0" lang="en-US" sz="2400" spc="-1" strike="noStrike">
                <a:solidFill>
                  <a:srgbClr val="0000cc"/>
                </a:solidFill>
                <a:latin typeface="ＭＳ Ｐゴシック"/>
              </a:rPr>
              <a:t> : Development of Mongolian Speech Databa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ＭＳ Ｐゴシック"/>
              </a:rPr>
              <a:t>5  </a:t>
            </a:r>
            <a:r>
              <a:rPr b="0" lang="en-US" sz="2800" spc="-1" strike="noStrike">
                <a:solidFill>
                  <a:srgbClr val="0000cc"/>
                </a:solidFill>
                <a:latin typeface="ＭＳ Ｐゴシック"/>
              </a:rPr>
              <a:t>Chinese Spoken in Taiwan</a:t>
            </a:r>
            <a:r>
              <a:rPr b="0" lang="en-US" sz="2400" spc="-1" strike="noStrike">
                <a:solidFill>
                  <a:srgbClr val="0000cc"/>
                </a:solidFill>
                <a:latin typeface="ＭＳ Ｐゴシック"/>
              </a:rPr>
              <a:t> : Speech Research &amp; Data Collection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3120"/>
            <a:ext cx="7702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urrently Used Speech Corpora in Japa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980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ATR Speech Corp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0" lang="en-US" sz="1600" spc="-1" strike="noStrike" u="sng">
                <a:solidFill>
                  <a:srgbClr val="0000cc"/>
                </a:solidFill>
                <a:uFillTx/>
                <a:latin typeface="Verdana"/>
              </a:rPr>
              <a:t>A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dvanced </a:t>
            </a:r>
            <a:r>
              <a:rPr b="0" lang="en-US" sz="1600" spc="-1" strike="noStrike" u="sng">
                <a:solidFill>
                  <a:srgbClr val="0000cc"/>
                </a:solidFill>
                <a:uFillTx/>
                <a:latin typeface="Verdana"/>
              </a:rPr>
              <a:t>T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elecommunication </a:t>
            </a:r>
            <a:r>
              <a:rPr b="0" lang="en-US" sz="1600" spc="-1" strike="noStrike" u="sng">
                <a:solidFill>
                  <a:srgbClr val="0000cc"/>
                </a:solidFill>
                <a:uFillTx/>
                <a:latin typeface="Verdana"/>
              </a:rPr>
              <a:t>R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esearch Institute, Internation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Verdana"/>
              </a:rPr>
              <a:t>Set A (Isolated Word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Verdana"/>
              </a:rPr>
              <a:t>Set B (Continuous Speech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Verdana"/>
              </a:rPr>
              <a:t>Set C (parts of Set A &amp; 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ASJ Speech Corp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0" lang="en-US" sz="1600" spc="-1" strike="noStrike" u="sng">
                <a:solidFill>
                  <a:srgbClr val="0000cc"/>
                </a:solidFill>
                <a:uFillTx/>
                <a:latin typeface="Verdana"/>
              </a:rPr>
              <a:t>A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coustical </a:t>
            </a:r>
            <a:r>
              <a:rPr b="0" lang="en-US" sz="1600" spc="-1" strike="noStrike" u="sng">
                <a:solidFill>
                  <a:srgbClr val="0000cc"/>
                </a:solidFill>
                <a:uFillTx/>
                <a:latin typeface="Verdana"/>
              </a:rPr>
              <a:t>S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ociety of </a:t>
            </a:r>
            <a:r>
              <a:rPr b="0" lang="en-US" sz="1600" spc="-1" strike="noStrike" u="sng">
                <a:solidFill>
                  <a:srgbClr val="0000cc"/>
                </a:solidFill>
                <a:uFillTx/>
                <a:latin typeface="Verdana"/>
              </a:rPr>
              <a:t>J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ap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Verdana"/>
              </a:rPr>
              <a:t>Continuous Speech Database for Resear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Verdana"/>
              </a:rPr>
              <a:t>Japanese Newspaper Article Sentences (JNA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CSJ Speech Corpus (under construc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0" lang="en-US" sz="1600" spc="-1" strike="noStrike" u="sng">
                <a:solidFill>
                  <a:srgbClr val="0000cc"/>
                </a:solidFill>
                <a:uFillTx/>
                <a:latin typeface="Verdana"/>
              </a:rPr>
              <a:t>C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orpus of </a:t>
            </a:r>
            <a:r>
              <a:rPr b="0" lang="en-US" sz="1600" spc="-1" strike="noStrike" u="sng">
                <a:solidFill>
                  <a:srgbClr val="0000cc"/>
                </a:solidFill>
                <a:uFillTx/>
                <a:latin typeface="Verdana"/>
              </a:rPr>
              <a:t>S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pontaneous </a:t>
            </a:r>
            <a:r>
              <a:rPr b="0" lang="en-US" sz="1600" spc="-1" strike="noStrike" u="sng">
                <a:solidFill>
                  <a:srgbClr val="0000cc"/>
                </a:solidFill>
                <a:uFillTx/>
                <a:latin typeface="Verdana"/>
              </a:rPr>
              <a:t>J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apane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331560"/>
            <a:ext cx="751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urrently Used Speech Corpora in Japa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7907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Result from a survey conducted this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Frequency among approximately 60 institutions responded (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1   ATR Corpus: 5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2   ASJ Corpus: 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3   JEIDA Corpus: 2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4   Self-Made Corpus: 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5   CSJ Corpus: 1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6   RWCP Corpus: 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00000"/>
                </a:solidFill>
                <a:latin typeface="Verdana"/>
              </a:rPr>
              <a:t>7   TIMIT+TIDIGIT Corpus: 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280" y="547200"/>
            <a:ext cx="777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Purpose of Database Us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7836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1  Speech Recognition: 73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00000"/>
                </a:solidFill>
                <a:latin typeface="Verdana"/>
              </a:rPr>
              <a:t>system development, evaluation, sentence comprehension</a:t>
            </a:r>
            <a:r>
              <a:rPr b="0" lang="zh-CN" sz="1600" spc="-1" strike="noStrike">
                <a:solidFill>
                  <a:srgbClr val="f00000"/>
                </a:solidFill>
                <a:latin typeface="Verdana"/>
              </a:rPr>
              <a:t>　</a:t>
            </a:r>
            <a:r>
              <a:rPr b="0" lang="en-US" sz="1600" spc="-1" strike="noStrike">
                <a:solidFill>
                  <a:srgbClr val="f00000"/>
                </a:solidFill>
                <a:latin typeface="Verdana"/>
              </a:rPr>
              <a:t>an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00000"/>
                </a:solidFill>
                <a:latin typeface="Verdana"/>
              </a:rPr>
              <a:t>summarization, speaker recogni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2  Speech Synthesis: 11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00000"/>
                </a:solidFill>
                <a:latin typeface="Verdana"/>
              </a:rPr>
              <a:t>system development, prosodic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3  Acoustic Analysis: 9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00000"/>
                </a:solidFill>
                <a:latin typeface="Verdana"/>
              </a:rPr>
              <a:t>acoustic analysis, speech cod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4  Sentence Analysis: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00000"/>
                </a:solidFill>
                <a:latin typeface="Verdana"/>
              </a:rPr>
              <a:t>syntactic and semantic analysis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5  Speech/Language Education: 2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1280" y="331560"/>
            <a:ext cx="7732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Database-Related Running Research Projects in Japa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110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Verdana"/>
              </a:rPr>
              <a:t>(1) Spontaneous Speech Engineering : Corpus and Processing Techn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Verdana"/>
              </a:rPr>
              <a:t>        </a:t>
            </a:r>
            <a:r>
              <a:rPr b="0" lang="ja-JP" sz="16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lang="ja-JP" sz="1600" spc="-1" strike="noStrike">
                <a:solidFill>
                  <a:srgbClr val="f00000"/>
                </a:solidFill>
                <a:latin typeface="Verdana"/>
              </a:rPr>
              <a:t>Tokyo Inst. of Tech., National Language Res. Inst., Com. Res. Lab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Verdana"/>
              </a:rPr>
              <a:t>(2) Integrated Acoustic Information 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lang="ja-JP" sz="16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lang="ja-JP" sz="1600" spc="-1" strike="noStrike">
                <a:solidFill>
                  <a:srgbClr val="f00000"/>
                </a:solidFill>
                <a:latin typeface="Verdana"/>
              </a:rPr>
              <a:t>Center for Integrated Acoust. Inf. Res. of Nagoya Univers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Verdana"/>
              </a:rPr>
              <a:t>(3) Realization of Advanced Spoken Language Information Processing from Prosodic 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lang="ja-JP" sz="16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lang="ja-JP" sz="1600" spc="-1" strike="noStrike">
                <a:solidFill>
                  <a:srgbClr val="f00000"/>
                </a:solidFill>
                <a:latin typeface="Verdana"/>
              </a:rPr>
              <a:t>Research Project across Universities headed by Univ. of Toky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Verdana"/>
              </a:rPr>
              <a:t>(4) The Expressive Speech Processing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lang="ja-JP" sz="16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lang="ja-JP" sz="1600" spc="-1" strike="noStrike">
                <a:solidFill>
                  <a:srgbClr val="f00000"/>
                </a:solidFill>
                <a:latin typeface="Verdana"/>
              </a:rPr>
              <a:t>ATR, NAIST, Kobe Univ., Keio Univ., Chiba Univ., ICP Greno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9400" y="423720"/>
            <a:ext cx="7678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3366"/>
                </a:solidFill>
                <a:latin typeface="Arial"/>
                <a:ea typeface="Arial"/>
              </a:rPr>
              <a:t>Activities for Speech Technology and Corpus Development in Kore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26920" y="3428640"/>
            <a:ext cx="62661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cc"/>
                </a:solidFill>
                <a:latin typeface="Arial"/>
                <a:ea typeface="ＭＳ 明朝"/>
              </a:rPr>
              <a:t>LEE Yong-Ju</a:t>
            </a:r>
            <a:r>
              <a:rPr b="0" i="1" lang="ja-JP" sz="4000" spc="-1" strike="noStrike">
                <a:solidFill>
                  <a:srgbClr val="0000cc"/>
                </a:solidFill>
                <a:latin typeface="Arial"/>
                <a:ea typeface="ＭＳ 明朝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00cc"/>
                </a:solidFill>
                <a:latin typeface="Arial"/>
                <a:ea typeface="ＭＳ 明朝"/>
              </a:rPr>
              <a:t>Wonkwang University, Iri, Kore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2:05:14Z</dcterms:created>
  <dc:creator> 桑原尚夫</dc:creator>
  <dc:description/>
  <dc:language>en-US</dc:language>
  <cp:lastModifiedBy>Nakamura</cp:lastModifiedBy>
  <dcterms:modified xsi:type="dcterms:W3CDTF">2002-09-13T09:02:27Z</dcterms:modified>
  <cp:revision>31</cp:revision>
  <dc:subject/>
  <dc:title>Overview of Recent Activities of Corpus Development in East Asia</dc:title>
</cp:coreProperties>
</file>